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0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72880" y="677520"/>
            <a:ext cx="451332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7"/>
          </p:nvPr>
        </p:nvSpPr>
        <p:spPr>
          <a:xfrm>
            <a:off x="-36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8"/>
          </p:nvPr>
        </p:nvSpPr>
        <p:spPr>
          <a:xfrm>
            <a:off x="388584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200A-F62F-4C40-8534-47ED8B7D9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19A4-583A-4250-BA16-747FEB8654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2A9F-D93C-4100-AA54-EEBA148744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BA63-7949-44A3-BC2D-BABADA4305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FCB8-2D1C-4422-A807-E14C69D5AA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2E81-16CC-4830-828D-7007F230F9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FDD8-0D05-4083-912C-2D54EAA796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115B-CA4E-4080-9EF9-2B3C7C60E9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CA91-9921-437D-9F76-A4F9ECBE8A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162E-28FF-4EB2-B33E-1E3D46EDF3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3D9D-F4F2-48A5-ADFD-5FC5B2304C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C3AB-E32A-412C-9B04-C7AB93F2C7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FF47-FAAC-4C95-8DEF-56EE30D3CF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D86E-351E-407C-9258-C6BADA073E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7BAA-65D0-4975-A0D8-3937260AA6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FF70-B41A-4F93-8537-02D5606C14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D4D3-E30E-4DE4-B0D2-920E12440E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8677-DE6C-4C53-A6D3-311AF331DD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BD6B-EB31-4D17-BFBA-B9470EBA90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0E11-0FC6-441D-B032-26150B35E1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49E9-D288-461E-917D-6F08992AD4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FA51-D438-4B36-BB25-BB8E98403C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88B4-700A-4E80-B1EC-45A0A23282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B17E-7557-4444-9258-B01592E502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2CAE-D80A-4345-B63A-FCEF3D0880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E46C-983A-44F8-BFB0-CC167429A5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63AD-9F11-48B2-A486-7F2695B4F4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F228B-23B0-472B-B1C1-75C373F6EE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810D9-7F7D-4A09-AD0C-C600F79C57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D08C3-7FF5-4AFC-9FC8-4A459AA5A3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3064C-69E2-4AD6-951F-3BDE779582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0CF73-74EA-4EFF-A4BA-4E314FDE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82532-E86B-4CA3-A71F-8E1AF7AA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22B6B-7733-4C62-8B9E-817A3F1B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35C07-B4D7-4D51-8050-6F8915B5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D7A09-2A4A-475C-9F28-09FD018E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B069D-3B88-45B8-84D6-8F67328A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43F0D-C8E0-4AC6-8BC9-E511FB13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D7843-9C94-4969-A58D-4366D9248E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3B418-FF70-43C8-ADEA-C156B5DB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3E203C-E531-4C03-B1E3-5A5A6294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2C9F7-D3C3-4F95-8D1B-9E51F9DB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1FEF03-45ED-4A3D-83EB-9BDC5B1A8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1218E-0E37-4159-9D2F-922A7234A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EC773-580C-4F4A-B3B9-1579D98025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81B4C-9CC2-4673-B4DB-462E027E71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8F7A4-E82D-4560-891C-67A5CE6E07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E76C3-8EA1-4FBE-ADDE-D648B30041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FD4A3-61C7-4D76-AB7E-2FAAFD0A18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6E254-2FB2-4A87-8BFF-34832F2360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0C825-2016-4E27-96DF-3110A7717A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0667"/>
            </a:gs>
            <a:gs pos="100000">
              <a:srgbClr val="4e0dd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0" y="264960"/>
            <a:ext cx="8915400" cy="6589800"/>
          </a:xfrm>
          <a:prstGeom prst="rtTriangle">
            <a:avLst/>
          </a:prstGeom>
          <a:gradFill rotWithShape="0">
            <a:gsLst>
              <a:gs pos="0">
                <a:srgbClr val="240667"/>
              </a:gs>
              <a:gs pos="100000">
                <a:srgbClr val="4e0d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5638680" y="5275440"/>
            <a:ext cx="3389400" cy="685800"/>
          </a:xfrm>
          <a:prstGeom prst="rect">
            <a:avLst/>
          </a:prstGeom>
          <a:gradFill rotWithShape="0">
            <a:gsLst>
              <a:gs pos="0">
                <a:srgbClr val="240667"/>
              </a:gs>
              <a:gs pos="50000">
                <a:srgbClr val="4e0ddf">
                  <a:alpha val="50196"/>
                </a:srgbClr>
              </a:gs>
              <a:gs pos="100000">
                <a:srgbClr val="2406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15840" y="1066680"/>
            <a:ext cx="9128160" cy="1320840"/>
          </a:xfrm>
          <a:prstGeom prst="rect">
            <a:avLst/>
          </a:prstGeom>
          <a:gradFill rotWithShape="0">
            <a:gsLst>
              <a:gs pos="0">
                <a:srgbClr val="240667"/>
              </a:gs>
              <a:gs pos="50000">
                <a:srgbClr val="4e0ddf"/>
              </a:gs>
              <a:gs pos="100000">
                <a:srgbClr val="2406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568240" y="6119280"/>
            <a:ext cx="39085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4B85-1E6A-4DB2-9DA7-B5C3DEC28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Arc 9"/>
          <p:cNvSpPr/>
          <p:nvPr/>
        </p:nvSpPr>
        <p:spPr>
          <a:xfrm flipH="1">
            <a:off x="5718960" y="3240"/>
            <a:ext cx="3429000" cy="6851520"/>
          </a:xfrm>
          <a:custGeom>
            <a:avLst/>
            <a:gdLst/>
            <a:ahLst/>
            <a:rect l="l" t="t" r="r" b="b"/>
            <a:pathLst>
              <a:path fill="none" w="21600" h="43161">
                <a:moveTo>
                  <a:pt x="1002" y="0"/>
                </a:moveTo>
                <a:cubicBezTo>
                  <a:pt x="12529" y="536"/>
                  <a:pt x="21600" y="10037"/>
                  <a:pt x="21600" y="21577"/>
                </a:cubicBezTo>
                <a:cubicBezTo>
                  <a:pt x="21600" y="-32349"/>
                  <a:pt x="12421" y="-22816"/>
                  <a:pt x="820" y="-22375"/>
                </a:cubicBezTo>
              </a:path>
              <a:path stroke="0" w="21600" h="43161">
                <a:moveTo>
                  <a:pt x="1002" y="0"/>
                </a:moveTo>
                <a:cubicBezTo>
                  <a:pt x="12529" y="536"/>
                  <a:pt x="21600" y="10037"/>
                  <a:pt x="21600" y="21577"/>
                </a:cubicBezTo>
                <a:cubicBezTo>
                  <a:pt x="21600" y="-32349"/>
                  <a:pt x="12421" y="-22816"/>
                  <a:pt x="820" y="-22375"/>
                </a:cubicBezTo>
                <a:lnTo>
                  <a:pt x="0" y="21577"/>
                </a:lnTo>
                <a:lnTo>
                  <a:pt x="1002" y="0"/>
                </a:lnTo>
                <a:close/>
              </a:path>
            </a:pathLst>
          </a:custGeom>
          <a:noFill/>
          <a:ln w="9360">
            <a:solidFill>
              <a:srgbClr val="4e0d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Arc 10"/>
          <p:cNvSpPr/>
          <p:nvPr/>
        </p:nvSpPr>
        <p:spPr>
          <a:xfrm flipV="1">
            <a:off x="6932520" y="-838800"/>
            <a:ext cx="2211480" cy="2361960"/>
          </a:xfrm>
          <a:custGeom>
            <a:avLst/>
            <a:gdLst/>
            <a:ahLst/>
            <a:rect l="l" t="t" r="r" b="b"/>
            <a:pathLst>
              <a:path fill="none" w="20223" h="21599">
                <a:moveTo>
                  <a:pt x="0" y="14009"/>
                </a:moveTo>
                <a:cubicBezTo>
                  <a:pt x="3132" y="5662"/>
                  <a:pt x="11071" y="98"/>
                  <a:pt x="19986" y="0"/>
                </a:cubicBezTo>
              </a:path>
              <a:path stroke="0" w="20223" h="21599">
                <a:moveTo>
                  <a:pt x="0" y="14009"/>
                </a:moveTo>
                <a:cubicBezTo>
                  <a:pt x="3132" y="5662"/>
                  <a:pt x="11071" y="98"/>
                  <a:pt x="19986" y="0"/>
                </a:cubicBezTo>
                <a:lnTo>
                  <a:pt x="20223" y="21599"/>
                </a:lnTo>
                <a:lnTo>
                  <a:pt x="0" y="14009"/>
                </a:lnTo>
                <a:close/>
              </a:path>
            </a:pathLst>
          </a:custGeom>
          <a:noFill/>
          <a:ln w="9360">
            <a:solidFill>
              <a:srgbClr val="4e0d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Line 11"/>
          <p:cNvSpPr/>
          <p:nvPr/>
        </p:nvSpPr>
        <p:spPr>
          <a:xfrm flipH="1" flipV="1">
            <a:off x="6715800" y="-17280"/>
            <a:ext cx="2361960" cy="2727720"/>
          </a:xfrm>
          <a:prstGeom prst="line">
            <a:avLst/>
          </a:prstGeom>
          <a:ln w="9360">
            <a:solidFill>
              <a:srgbClr val="4e0d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7243920" y="-12600"/>
            <a:ext cx="1440" cy="6811920"/>
          </a:xfrm>
          <a:prstGeom prst="line">
            <a:avLst/>
          </a:prstGeom>
          <a:ln w="9360">
            <a:solidFill>
              <a:srgbClr val="4e0d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Line 13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9360">
            <a:solidFill>
              <a:srgbClr val="4e0d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0667"/>
            </a:gs>
            <a:gs pos="100000">
              <a:srgbClr val="4e0dd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572000" y="5275440"/>
            <a:ext cx="4603680" cy="685800"/>
          </a:xfrm>
          <a:prstGeom prst="rect">
            <a:avLst/>
          </a:prstGeom>
          <a:gradFill rotWithShape="0">
            <a:gsLst>
              <a:gs pos="0">
                <a:srgbClr val="240667"/>
              </a:gs>
              <a:gs pos="50000">
                <a:srgbClr val="4e0ddf">
                  <a:alpha val="50196"/>
                </a:srgbClr>
              </a:gs>
              <a:gs pos="100000">
                <a:srgbClr val="2406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0" y="268200"/>
            <a:ext cx="8915400" cy="6589800"/>
          </a:xfrm>
          <a:prstGeom prst="rtTriangle">
            <a:avLst/>
          </a:prstGeom>
          <a:noFill/>
          <a:ln w="9360">
            <a:solidFill>
              <a:srgbClr val="4e0d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5840" y="1523880"/>
            <a:ext cx="9128160" cy="1320840"/>
          </a:xfrm>
          <a:prstGeom prst="rect">
            <a:avLst/>
          </a:prstGeom>
          <a:gradFill rotWithShape="0">
            <a:gsLst>
              <a:gs pos="0">
                <a:srgbClr val="240667"/>
              </a:gs>
              <a:gs pos="50000">
                <a:srgbClr val="4e0ddf"/>
              </a:gs>
              <a:gs pos="100000">
                <a:srgbClr val="2406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Line 5"/>
          <p:cNvSpPr/>
          <p:nvPr/>
        </p:nvSpPr>
        <p:spPr>
          <a:xfrm>
            <a:off x="542880" y="3228840"/>
            <a:ext cx="0" cy="3627720"/>
          </a:xfrm>
          <a:prstGeom prst="line">
            <a:avLst/>
          </a:prstGeom>
          <a:ln cap="sq" w="12600">
            <a:solidFill>
              <a:srgbClr val="4e0d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52" name="Group 6"/>
          <p:cNvGrpSpPr/>
          <p:nvPr/>
        </p:nvGrpSpPr>
        <p:grpSpPr>
          <a:xfrm>
            <a:off x="6837480" y="-9360"/>
            <a:ext cx="330120" cy="6875280"/>
            <a:chOff x="6837480" y="-9360"/>
            <a:chExt cx="330120" cy="6875280"/>
          </a:xfrm>
        </p:grpSpPr>
        <p:sp>
          <p:nvSpPr>
            <p:cNvPr id="53" name="Rectangle 7"/>
            <p:cNvSpPr/>
            <p:nvPr/>
          </p:nvSpPr>
          <p:spPr>
            <a:xfrm>
              <a:off x="6865920" y="6721560"/>
              <a:ext cx="76320" cy="1443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4" name="Rectangle 8"/>
            <p:cNvSpPr/>
            <p:nvPr/>
          </p:nvSpPr>
          <p:spPr>
            <a:xfrm>
              <a:off x="6837480" y="304812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5" name="Rectangle 9"/>
            <p:cNvSpPr/>
            <p:nvPr/>
          </p:nvSpPr>
          <p:spPr>
            <a:xfrm>
              <a:off x="7142040" y="335268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837480" y="42670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>
              <a:off x="6837480" y="54864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8" name="Rectangle 12"/>
            <p:cNvSpPr/>
            <p:nvPr/>
          </p:nvSpPr>
          <p:spPr>
            <a:xfrm>
              <a:off x="7142040" y="45720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9" name="Rectangle 13"/>
            <p:cNvSpPr/>
            <p:nvPr/>
          </p:nvSpPr>
          <p:spPr>
            <a:xfrm>
              <a:off x="7142040" y="579132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0" name="Rectangle 14"/>
            <p:cNvSpPr/>
            <p:nvPr/>
          </p:nvSpPr>
          <p:spPr>
            <a:xfrm>
              <a:off x="6837480" y="-9360"/>
              <a:ext cx="75960" cy="1029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7142040" y="-7920"/>
              <a:ext cx="25560" cy="4064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6837480" y="4762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6837480" y="16956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142040" y="7812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5" name="Rectangle 19"/>
            <p:cNvSpPr/>
            <p:nvPr/>
          </p:nvSpPr>
          <p:spPr>
            <a:xfrm>
              <a:off x="7142040" y="200016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66" name="Freeform 24"/>
          <p:cNvSpPr/>
          <p:nvPr/>
        </p:nvSpPr>
        <p:spPr>
          <a:xfrm>
            <a:off x="187200" y="404640"/>
            <a:ext cx="7489800" cy="5542200"/>
          </a:xfrm>
          <a:custGeom>
            <a:avLst/>
            <a:gdLst/>
            <a:ahLst/>
            <a:rect l="l" t="t" r="r" b="b"/>
            <a:pathLst>
              <a:path w="4718" h="3491">
                <a:moveTo>
                  <a:pt x="4718" y="3491"/>
                </a:moveTo>
                <a:lnTo>
                  <a:pt x="4718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4e0d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Rectangle 25"/>
          <p:cNvSpPr/>
          <p:nvPr/>
        </p:nvSpPr>
        <p:spPr>
          <a:xfrm>
            <a:off x="20520" y="1676520"/>
            <a:ext cx="9128160" cy="1320840"/>
          </a:xfrm>
          <a:prstGeom prst="rect">
            <a:avLst/>
          </a:prstGeom>
          <a:gradFill rotWithShape="0">
            <a:gsLst>
              <a:gs pos="0">
                <a:srgbClr val="240667"/>
              </a:gs>
              <a:gs pos="50000">
                <a:srgbClr val="4e0ddf"/>
              </a:gs>
              <a:gs pos="100000">
                <a:srgbClr val="2406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Arc 27"/>
          <p:cNvSpPr/>
          <p:nvPr/>
        </p:nvSpPr>
        <p:spPr>
          <a:xfrm flipH="1">
            <a:off x="5866560" y="3240"/>
            <a:ext cx="3429000" cy="6851520"/>
          </a:xfrm>
          <a:custGeom>
            <a:avLst/>
            <a:gdLst/>
            <a:ahLst/>
            <a:rect l="l" t="t" r="r" b="b"/>
            <a:pathLst>
              <a:path fill="none" w="21600" h="43161">
                <a:moveTo>
                  <a:pt x="1002" y="0"/>
                </a:moveTo>
                <a:cubicBezTo>
                  <a:pt x="12529" y="536"/>
                  <a:pt x="21600" y="10037"/>
                  <a:pt x="21600" y="21577"/>
                </a:cubicBezTo>
                <a:cubicBezTo>
                  <a:pt x="21600" y="-32349"/>
                  <a:pt x="12421" y="-22816"/>
                  <a:pt x="820" y="-22375"/>
                </a:cubicBezTo>
              </a:path>
              <a:path stroke="0" w="21600" h="43161">
                <a:moveTo>
                  <a:pt x="1002" y="0"/>
                </a:moveTo>
                <a:cubicBezTo>
                  <a:pt x="12529" y="536"/>
                  <a:pt x="21600" y="10037"/>
                  <a:pt x="21600" y="21577"/>
                </a:cubicBezTo>
                <a:cubicBezTo>
                  <a:pt x="21600" y="-32349"/>
                  <a:pt x="12421" y="-22816"/>
                  <a:pt x="820" y="-22375"/>
                </a:cubicBezTo>
                <a:lnTo>
                  <a:pt x="0" y="21577"/>
                </a:lnTo>
                <a:lnTo>
                  <a:pt x="1002" y="0"/>
                </a:lnTo>
                <a:close/>
              </a:path>
            </a:pathLst>
          </a:custGeom>
          <a:noFill/>
          <a:ln w="9360">
            <a:solidFill>
              <a:srgbClr val="4e0d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3"/>
          </p:nvPr>
        </p:nvSpPr>
        <p:spPr>
          <a:xfrm>
            <a:off x="685440" y="5257440"/>
            <a:ext cx="390852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4"/>
          </p:nvPr>
        </p:nvSpPr>
        <p:spPr>
          <a:xfrm>
            <a:off x="685440" y="5638320"/>
            <a:ext cx="3908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5"/>
          </p:nvPr>
        </p:nvSpPr>
        <p:spPr>
          <a:xfrm>
            <a:off x="7236000" y="6356160"/>
            <a:ext cx="1908000" cy="50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lstStyle>
            <a:lvl1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5331-9855-4B4D-B493-A4BEA18186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5A98-2986-4451-AC0C-EFD1469363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42184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e Information Society:  A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     Context for Librarie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990720" y="312408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-Envisioning Libraries in the Information Societ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C83B-2B15-4EF5-86C9-008FF7322A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4218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ole of the Library in the Information Infrastructure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2361960"/>
            <a:ext cx="807732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mediary between the information user and the information cre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ing or decreasing? 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1219320" y="4952880"/>
            <a:ext cx="1447560" cy="609840"/>
          </a:xfrm>
          <a:prstGeom prst="rect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3809880" y="4952880"/>
            <a:ext cx="1524240" cy="6098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LIBRA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Y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6553080" y="4952880"/>
            <a:ext cx="1600200" cy="609840"/>
          </a:xfrm>
          <a:prstGeom prst="rect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INFO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Line 12"/>
          <p:cNvSpPr/>
          <p:nvPr/>
        </p:nvSpPr>
        <p:spPr>
          <a:xfrm>
            <a:off x="2666880" y="525780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Line 13"/>
          <p:cNvSpPr/>
          <p:nvPr/>
        </p:nvSpPr>
        <p:spPr>
          <a:xfrm>
            <a:off x="5410080" y="525780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4DCF-C52D-4B89-B757-4907DDEF23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42184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formation Cycle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Creators of inform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- writers,                     musicians, artists, researchers,                         database producers, web produc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Information produc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- books, videos, magazines,                 CDs, web sit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Distributors of inform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- publishers, Internet providers, vendors, produc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Disseminators of inform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- schools, libraries, colleges and universities, businesses, government, museum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Users of inform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- individuals, business persons, researchers, employees and employ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Group 16"/>
          <p:cNvGrpSpPr/>
          <p:nvPr/>
        </p:nvGrpSpPr>
        <p:grpSpPr>
          <a:xfrm>
            <a:off x="6477120" y="304920"/>
            <a:ext cx="2315520" cy="2353680"/>
            <a:chOff x="6477120" y="304920"/>
            <a:chExt cx="2315520" cy="2353680"/>
          </a:xfrm>
        </p:grpSpPr>
        <p:sp>
          <p:nvSpPr>
            <p:cNvPr id="172" name="Freeform 6"/>
            <p:cNvSpPr/>
            <p:nvPr/>
          </p:nvSpPr>
          <p:spPr>
            <a:xfrm>
              <a:off x="6505920" y="519480"/>
              <a:ext cx="849960" cy="824040"/>
            </a:xfrm>
            <a:custGeom>
              <a:avLst/>
              <a:gdLst/>
              <a:ahLst/>
              <a:rect l="l" t="t" r="r" b="b"/>
              <a:pathLst>
                <a:path w="1109" h="1106">
                  <a:moveTo>
                    <a:pt x="0" y="876"/>
                  </a:moveTo>
                  <a:lnTo>
                    <a:pt x="12" y="853"/>
                  </a:lnTo>
                  <a:lnTo>
                    <a:pt x="22" y="835"/>
                  </a:lnTo>
                  <a:lnTo>
                    <a:pt x="32" y="815"/>
                  </a:lnTo>
                  <a:lnTo>
                    <a:pt x="42" y="796"/>
                  </a:lnTo>
                  <a:lnTo>
                    <a:pt x="53" y="776"/>
                  </a:lnTo>
                  <a:lnTo>
                    <a:pt x="66" y="756"/>
                  </a:lnTo>
                  <a:lnTo>
                    <a:pt x="77" y="738"/>
                  </a:lnTo>
                  <a:lnTo>
                    <a:pt x="89" y="718"/>
                  </a:lnTo>
                  <a:lnTo>
                    <a:pt x="104" y="695"/>
                  </a:lnTo>
                  <a:lnTo>
                    <a:pt x="122" y="672"/>
                  </a:lnTo>
                  <a:lnTo>
                    <a:pt x="134" y="654"/>
                  </a:lnTo>
                  <a:lnTo>
                    <a:pt x="150" y="635"/>
                  </a:lnTo>
                  <a:lnTo>
                    <a:pt x="166" y="614"/>
                  </a:lnTo>
                  <a:lnTo>
                    <a:pt x="183" y="591"/>
                  </a:lnTo>
                  <a:lnTo>
                    <a:pt x="200" y="571"/>
                  </a:lnTo>
                  <a:lnTo>
                    <a:pt x="219" y="549"/>
                  </a:lnTo>
                  <a:lnTo>
                    <a:pt x="236" y="532"/>
                  </a:lnTo>
                  <a:lnTo>
                    <a:pt x="257" y="508"/>
                  </a:lnTo>
                  <a:lnTo>
                    <a:pt x="276" y="488"/>
                  </a:lnTo>
                  <a:lnTo>
                    <a:pt x="294" y="471"/>
                  </a:lnTo>
                  <a:lnTo>
                    <a:pt x="316" y="451"/>
                  </a:lnTo>
                  <a:lnTo>
                    <a:pt x="331" y="437"/>
                  </a:lnTo>
                  <a:lnTo>
                    <a:pt x="351" y="420"/>
                  </a:lnTo>
                  <a:lnTo>
                    <a:pt x="371" y="402"/>
                  </a:lnTo>
                  <a:lnTo>
                    <a:pt x="396" y="384"/>
                  </a:lnTo>
                  <a:lnTo>
                    <a:pt x="416" y="368"/>
                  </a:lnTo>
                  <a:lnTo>
                    <a:pt x="438" y="350"/>
                  </a:lnTo>
                  <a:lnTo>
                    <a:pt x="466" y="331"/>
                  </a:lnTo>
                  <a:lnTo>
                    <a:pt x="490" y="312"/>
                  </a:lnTo>
                  <a:lnTo>
                    <a:pt x="517" y="294"/>
                  </a:lnTo>
                  <a:lnTo>
                    <a:pt x="544" y="277"/>
                  </a:lnTo>
                  <a:lnTo>
                    <a:pt x="573" y="261"/>
                  </a:lnTo>
                  <a:lnTo>
                    <a:pt x="603" y="244"/>
                  </a:lnTo>
                  <a:lnTo>
                    <a:pt x="628" y="233"/>
                  </a:lnTo>
                  <a:lnTo>
                    <a:pt x="652" y="218"/>
                  </a:lnTo>
                  <a:lnTo>
                    <a:pt x="681" y="207"/>
                  </a:lnTo>
                  <a:lnTo>
                    <a:pt x="701" y="198"/>
                  </a:lnTo>
                  <a:lnTo>
                    <a:pt x="615" y="0"/>
                  </a:lnTo>
                  <a:lnTo>
                    <a:pt x="1109" y="283"/>
                  </a:lnTo>
                  <a:lnTo>
                    <a:pt x="981" y="869"/>
                  </a:lnTo>
                  <a:lnTo>
                    <a:pt x="901" y="695"/>
                  </a:lnTo>
                  <a:lnTo>
                    <a:pt x="868" y="711"/>
                  </a:lnTo>
                  <a:lnTo>
                    <a:pt x="837" y="728"/>
                  </a:lnTo>
                  <a:lnTo>
                    <a:pt x="802" y="749"/>
                  </a:lnTo>
                  <a:lnTo>
                    <a:pt x="765" y="774"/>
                  </a:lnTo>
                  <a:lnTo>
                    <a:pt x="737" y="795"/>
                  </a:lnTo>
                  <a:lnTo>
                    <a:pt x="708" y="819"/>
                  </a:lnTo>
                  <a:lnTo>
                    <a:pt x="680" y="842"/>
                  </a:lnTo>
                  <a:lnTo>
                    <a:pt x="655" y="866"/>
                  </a:lnTo>
                  <a:lnTo>
                    <a:pt x="632" y="892"/>
                  </a:lnTo>
                  <a:lnTo>
                    <a:pt x="607" y="919"/>
                  </a:lnTo>
                  <a:lnTo>
                    <a:pt x="585" y="946"/>
                  </a:lnTo>
                  <a:lnTo>
                    <a:pt x="564" y="973"/>
                  </a:lnTo>
                  <a:lnTo>
                    <a:pt x="545" y="998"/>
                  </a:lnTo>
                  <a:lnTo>
                    <a:pt x="525" y="1030"/>
                  </a:lnTo>
                  <a:lnTo>
                    <a:pt x="507" y="1060"/>
                  </a:lnTo>
                  <a:lnTo>
                    <a:pt x="497" y="1083"/>
                  </a:lnTo>
                  <a:lnTo>
                    <a:pt x="484" y="1106"/>
                  </a:lnTo>
                  <a:lnTo>
                    <a:pt x="0" y="87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3" name="Freeform 8"/>
            <p:cNvSpPr/>
            <p:nvPr/>
          </p:nvSpPr>
          <p:spPr>
            <a:xfrm>
              <a:off x="6477120" y="1583640"/>
              <a:ext cx="849600" cy="785520"/>
            </a:xfrm>
            <a:custGeom>
              <a:avLst/>
              <a:gdLst/>
              <a:ahLst/>
              <a:rect l="l" t="t" r="r" b="b"/>
              <a:pathLst>
                <a:path w="1108" h="1055">
                  <a:moveTo>
                    <a:pt x="880" y="1055"/>
                  </a:moveTo>
                  <a:lnTo>
                    <a:pt x="857" y="1043"/>
                  </a:lnTo>
                  <a:lnTo>
                    <a:pt x="839" y="1033"/>
                  </a:lnTo>
                  <a:lnTo>
                    <a:pt x="819" y="1023"/>
                  </a:lnTo>
                  <a:lnTo>
                    <a:pt x="800" y="1013"/>
                  </a:lnTo>
                  <a:lnTo>
                    <a:pt x="780" y="1002"/>
                  </a:lnTo>
                  <a:lnTo>
                    <a:pt x="760" y="990"/>
                  </a:lnTo>
                  <a:lnTo>
                    <a:pt x="742" y="977"/>
                  </a:lnTo>
                  <a:lnTo>
                    <a:pt x="722" y="966"/>
                  </a:lnTo>
                  <a:lnTo>
                    <a:pt x="700" y="950"/>
                  </a:lnTo>
                  <a:lnTo>
                    <a:pt x="676" y="935"/>
                  </a:lnTo>
                  <a:lnTo>
                    <a:pt x="657" y="920"/>
                  </a:lnTo>
                  <a:lnTo>
                    <a:pt x="639" y="905"/>
                  </a:lnTo>
                  <a:lnTo>
                    <a:pt x="617" y="889"/>
                  </a:lnTo>
                  <a:lnTo>
                    <a:pt x="595" y="872"/>
                  </a:lnTo>
                  <a:lnTo>
                    <a:pt x="575" y="855"/>
                  </a:lnTo>
                  <a:lnTo>
                    <a:pt x="553" y="836"/>
                  </a:lnTo>
                  <a:lnTo>
                    <a:pt x="536" y="820"/>
                  </a:lnTo>
                  <a:lnTo>
                    <a:pt x="512" y="798"/>
                  </a:lnTo>
                  <a:lnTo>
                    <a:pt x="492" y="779"/>
                  </a:lnTo>
                  <a:lnTo>
                    <a:pt x="475" y="761"/>
                  </a:lnTo>
                  <a:lnTo>
                    <a:pt x="455" y="739"/>
                  </a:lnTo>
                  <a:lnTo>
                    <a:pt x="440" y="723"/>
                  </a:lnTo>
                  <a:lnTo>
                    <a:pt x="423" y="703"/>
                  </a:lnTo>
                  <a:lnTo>
                    <a:pt x="406" y="683"/>
                  </a:lnTo>
                  <a:lnTo>
                    <a:pt x="388" y="659"/>
                  </a:lnTo>
                  <a:lnTo>
                    <a:pt x="371" y="639"/>
                  </a:lnTo>
                  <a:lnTo>
                    <a:pt x="353" y="616"/>
                  </a:lnTo>
                  <a:lnTo>
                    <a:pt x="333" y="589"/>
                  </a:lnTo>
                  <a:lnTo>
                    <a:pt x="316" y="565"/>
                  </a:lnTo>
                  <a:lnTo>
                    <a:pt x="298" y="538"/>
                  </a:lnTo>
                  <a:lnTo>
                    <a:pt x="281" y="511"/>
                  </a:lnTo>
                  <a:lnTo>
                    <a:pt x="265" y="482"/>
                  </a:lnTo>
                  <a:lnTo>
                    <a:pt x="248" y="452"/>
                  </a:lnTo>
                  <a:lnTo>
                    <a:pt x="236" y="427"/>
                  </a:lnTo>
                  <a:lnTo>
                    <a:pt x="222" y="402"/>
                  </a:lnTo>
                  <a:lnTo>
                    <a:pt x="211" y="375"/>
                  </a:lnTo>
                  <a:lnTo>
                    <a:pt x="0" y="475"/>
                  </a:lnTo>
                  <a:lnTo>
                    <a:pt x="348" y="0"/>
                  </a:lnTo>
                  <a:lnTo>
                    <a:pt x="937" y="51"/>
                  </a:lnTo>
                  <a:lnTo>
                    <a:pt x="700" y="157"/>
                  </a:lnTo>
                  <a:lnTo>
                    <a:pt x="715" y="187"/>
                  </a:lnTo>
                  <a:lnTo>
                    <a:pt x="732" y="218"/>
                  </a:lnTo>
                  <a:lnTo>
                    <a:pt x="753" y="252"/>
                  </a:lnTo>
                  <a:lnTo>
                    <a:pt x="777" y="290"/>
                  </a:lnTo>
                  <a:lnTo>
                    <a:pt x="799" y="318"/>
                  </a:lnTo>
                  <a:lnTo>
                    <a:pt x="823" y="347"/>
                  </a:lnTo>
                  <a:lnTo>
                    <a:pt x="846" y="375"/>
                  </a:lnTo>
                  <a:lnTo>
                    <a:pt x="870" y="399"/>
                  </a:lnTo>
                  <a:lnTo>
                    <a:pt x="896" y="422"/>
                  </a:lnTo>
                  <a:lnTo>
                    <a:pt x="923" y="448"/>
                  </a:lnTo>
                  <a:lnTo>
                    <a:pt x="950" y="469"/>
                  </a:lnTo>
                  <a:lnTo>
                    <a:pt x="976" y="491"/>
                  </a:lnTo>
                  <a:lnTo>
                    <a:pt x="1001" y="509"/>
                  </a:lnTo>
                  <a:lnTo>
                    <a:pt x="1033" y="529"/>
                  </a:lnTo>
                  <a:lnTo>
                    <a:pt x="1064" y="548"/>
                  </a:lnTo>
                  <a:lnTo>
                    <a:pt x="1087" y="558"/>
                  </a:lnTo>
                  <a:lnTo>
                    <a:pt x="1108" y="569"/>
                  </a:lnTo>
                  <a:lnTo>
                    <a:pt x="880" y="1055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4" name="Freeform 10"/>
            <p:cNvSpPr/>
            <p:nvPr/>
          </p:nvSpPr>
          <p:spPr>
            <a:xfrm>
              <a:off x="7612560" y="1878840"/>
              <a:ext cx="800640" cy="779760"/>
            </a:xfrm>
            <a:custGeom>
              <a:avLst/>
              <a:gdLst/>
              <a:ahLst/>
              <a:rect l="l" t="t" r="r" b="b"/>
              <a:pathLst>
                <a:path w="1046" h="1046">
                  <a:moveTo>
                    <a:pt x="1046" y="229"/>
                  </a:moveTo>
                  <a:lnTo>
                    <a:pt x="1033" y="252"/>
                  </a:lnTo>
                  <a:lnTo>
                    <a:pt x="1024" y="271"/>
                  </a:lnTo>
                  <a:lnTo>
                    <a:pt x="1013" y="291"/>
                  </a:lnTo>
                  <a:lnTo>
                    <a:pt x="1004" y="309"/>
                  </a:lnTo>
                  <a:lnTo>
                    <a:pt x="993" y="329"/>
                  </a:lnTo>
                  <a:lnTo>
                    <a:pt x="980" y="349"/>
                  </a:lnTo>
                  <a:lnTo>
                    <a:pt x="969" y="368"/>
                  </a:lnTo>
                  <a:lnTo>
                    <a:pt x="956" y="388"/>
                  </a:lnTo>
                  <a:lnTo>
                    <a:pt x="940" y="409"/>
                  </a:lnTo>
                  <a:lnTo>
                    <a:pt x="924" y="432"/>
                  </a:lnTo>
                  <a:lnTo>
                    <a:pt x="911" y="451"/>
                  </a:lnTo>
                  <a:lnTo>
                    <a:pt x="896" y="469"/>
                  </a:lnTo>
                  <a:lnTo>
                    <a:pt x="879" y="492"/>
                  </a:lnTo>
                  <a:lnTo>
                    <a:pt x="861" y="515"/>
                  </a:lnTo>
                  <a:lnTo>
                    <a:pt x="844" y="535"/>
                  </a:lnTo>
                  <a:lnTo>
                    <a:pt x="826" y="556"/>
                  </a:lnTo>
                  <a:lnTo>
                    <a:pt x="810" y="573"/>
                  </a:lnTo>
                  <a:lnTo>
                    <a:pt x="787" y="598"/>
                  </a:lnTo>
                  <a:lnTo>
                    <a:pt x="769" y="618"/>
                  </a:lnTo>
                  <a:lnTo>
                    <a:pt x="750" y="635"/>
                  </a:lnTo>
                  <a:lnTo>
                    <a:pt x="729" y="655"/>
                  </a:lnTo>
                  <a:lnTo>
                    <a:pt x="713" y="669"/>
                  </a:lnTo>
                  <a:lnTo>
                    <a:pt x="693" y="686"/>
                  </a:lnTo>
                  <a:lnTo>
                    <a:pt x="673" y="703"/>
                  </a:lnTo>
                  <a:lnTo>
                    <a:pt x="650" y="722"/>
                  </a:lnTo>
                  <a:lnTo>
                    <a:pt x="630" y="738"/>
                  </a:lnTo>
                  <a:lnTo>
                    <a:pt x="607" y="755"/>
                  </a:lnTo>
                  <a:lnTo>
                    <a:pt x="579" y="775"/>
                  </a:lnTo>
                  <a:lnTo>
                    <a:pt x="555" y="792"/>
                  </a:lnTo>
                  <a:lnTo>
                    <a:pt x="529" y="810"/>
                  </a:lnTo>
                  <a:lnTo>
                    <a:pt x="502" y="829"/>
                  </a:lnTo>
                  <a:lnTo>
                    <a:pt x="473" y="845"/>
                  </a:lnTo>
                  <a:lnTo>
                    <a:pt x="617" y="1046"/>
                  </a:lnTo>
                  <a:lnTo>
                    <a:pt x="42" y="788"/>
                  </a:lnTo>
                  <a:lnTo>
                    <a:pt x="0" y="277"/>
                  </a:lnTo>
                  <a:lnTo>
                    <a:pt x="119" y="421"/>
                  </a:lnTo>
                  <a:lnTo>
                    <a:pt x="146" y="408"/>
                  </a:lnTo>
                  <a:lnTo>
                    <a:pt x="174" y="394"/>
                  </a:lnTo>
                  <a:lnTo>
                    <a:pt x="209" y="376"/>
                  </a:lnTo>
                  <a:lnTo>
                    <a:pt x="244" y="356"/>
                  </a:lnTo>
                  <a:lnTo>
                    <a:pt x="279" y="332"/>
                  </a:lnTo>
                  <a:lnTo>
                    <a:pt x="309" y="311"/>
                  </a:lnTo>
                  <a:lnTo>
                    <a:pt x="338" y="287"/>
                  </a:lnTo>
                  <a:lnTo>
                    <a:pt x="366" y="262"/>
                  </a:lnTo>
                  <a:lnTo>
                    <a:pt x="389" y="239"/>
                  </a:lnTo>
                  <a:lnTo>
                    <a:pt x="413" y="214"/>
                  </a:lnTo>
                  <a:lnTo>
                    <a:pt x="439" y="185"/>
                  </a:lnTo>
                  <a:lnTo>
                    <a:pt x="460" y="160"/>
                  </a:lnTo>
                  <a:lnTo>
                    <a:pt x="482" y="132"/>
                  </a:lnTo>
                  <a:lnTo>
                    <a:pt x="500" y="108"/>
                  </a:lnTo>
                  <a:lnTo>
                    <a:pt x="520" y="75"/>
                  </a:lnTo>
                  <a:lnTo>
                    <a:pt x="539" y="45"/>
                  </a:lnTo>
                  <a:lnTo>
                    <a:pt x="549" y="22"/>
                  </a:lnTo>
                  <a:lnTo>
                    <a:pt x="559" y="0"/>
                  </a:lnTo>
                  <a:lnTo>
                    <a:pt x="1046" y="229"/>
                  </a:lnTo>
                  <a:close/>
                </a:path>
              </a:pathLst>
            </a:custGeom>
            <a:solidFill>
              <a:srgbClr val="0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8055000" y="805320"/>
              <a:ext cx="737640" cy="907920"/>
            </a:xfrm>
            <a:custGeom>
              <a:avLst/>
              <a:gdLst/>
              <a:ahLst/>
              <a:rect l="l" t="t" r="r" b="b"/>
              <a:pathLst>
                <a:path w="965" h="1217">
                  <a:moveTo>
                    <a:pt x="0" y="773"/>
                  </a:moveTo>
                  <a:lnTo>
                    <a:pt x="240" y="863"/>
                  </a:lnTo>
                  <a:lnTo>
                    <a:pt x="253" y="833"/>
                  </a:lnTo>
                  <a:lnTo>
                    <a:pt x="263" y="805"/>
                  </a:lnTo>
                  <a:lnTo>
                    <a:pt x="270" y="778"/>
                  </a:lnTo>
                  <a:lnTo>
                    <a:pt x="277" y="753"/>
                  </a:lnTo>
                  <a:lnTo>
                    <a:pt x="284" y="726"/>
                  </a:lnTo>
                  <a:lnTo>
                    <a:pt x="290" y="695"/>
                  </a:lnTo>
                  <a:lnTo>
                    <a:pt x="294" y="666"/>
                  </a:lnTo>
                  <a:lnTo>
                    <a:pt x="298" y="638"/>
                  </a:lnTo>
                  <a:lnTo>
                    <a:pt x="303" y="605"/>
                  </a:lnTo>
                  <a:lnTo>
                    <a:pt x="304" y="571"/>
                  </a:lnTo>
                  <a:lnTo>
                    <a:pt x="304" y="509"/>
                  </a:lnTo>
                  <a:lnTo>
                    <a:pt x="303" y="477"/>
                  </a:lnTo>
                  <a:lnTo>
                    <a:pt x="301" y="448"/>
                  </a:lnTo>
                  <a:lnTo>
                    <a:pt x="297" y="418"/>
                  </a:lnTo>
                  <a:lnTo>
                    <a:pt x="291" y="387"/>
                  </a:lnTo>
                  <a:lnTo>
                    <a:pt x="286" y="359"/>
                  </a:lnTo>
                  <a:lnTo>
                    <a:pt x="278" y="325"/>
                  </a:lnTo>
                  <a:lnTo>
                    <a:pt x="268" y="292"/>
                  </a:lnTo>
                  <a:lnTo>
                    <a:pt x="734" y="0"/>
                  </a:lnTo>
                  <a:lnTo>
                    <a:pt x="745" y="28"/>
                  </a:lnTo>
                  <a:lnTo>
                    <a:pt x="755" y="55"/>
                  </a:lnTo>
                  <a:lnTo>
                    <a:pt x="764" y="80"/>
                  </a:lnTo>
                  <a:lnTo>
                    <a:pt x="772" y="105"/>
                  </a:lnTo>
                  <a:lnTo>
                    <a:pt x="779" y="130"/>
                  </a:lnTo>
                  <a:lnTo>
                    <a:pt x="788" y="155"/>
                  </a:lnTo>
                  <a:lnTo>
                    <a:pt x="794" y="178"/>
                  </a:lnTo>
                  <a:lnTo>
                    <a:pt x="799" y="202"/>
                  </a:lnTo>
                  <a:lnTo>
                    <a:pt x="805" y="227"/>
                  </a:lnTo>
                  <a:lnTo>
                    <a:pt x="812" y="254"/>
                  </a:lnTo>
                  <a:lnTo>
                    <a:pt x="816" y="285"/>
                  </a:lnTo>
                  <a:lnTo>
                    <a:pt x="822" y="311"/>
                  </a:lnTo>
                  <a:lnTo>
                    <a:pt x="828" y="339"/>
                  </a:lnTo>
                  <a:lnTo>
                    <a:pt x="832" y="369"/>
                  </a:lnTo>
                  <a:lnTo>
                    <a:pt x="834" y="401"/>
                  </a:lnTo>
                  <a:lnTo>
                    <a:pt x="836" y="435"/>
                  </a:lnTo>
                  <a:lnTo>
                    <a:pt x="839" y="468"/>
                  </a:lnTo>
                  <a:lnTo>
                    <a:pt x="839" y="499"/>
                  </a:lnTo>
                  <a:lnTo>
                    <a:pt x="839" y="534"/>
                  </a:lnTo>
                  <a:lnTo>
                    <a:pt x="839" y="576"/>
                  </a:lnTo>
                  <a:lnTo>
                    <a:pt x="838" y="615"/>
                  </a:lnTo>
                  <a:lnTo>
                    <a:pt x="836" y="642"/>
                  </a:lnTo>
                  <a:lnTo>
                    <a:pt x="834" y="672"/>
                  </a:lnTo>
                  <a:lnTo>
                    <a:pt x="832" y="703"/>
                  </a:lnTo>
                  <a:lnTo>
                    <a:pt x="826" y="739"/>
                  </a:lnTo>
                  <a:lnTo>
                    <a:pt x="821" y="769"/>
                  </a:lnTo>
                  <a:lnTo>
                    <a:pt x="815" y="799"/>
                  </a:lnTo>
                  <a:lnTo>
                    <a:pt x="808" y="835"/>
                  </a:lnTo>
                  <a:lnTo>
                    <a:pt x="801" y="862"/>
                  </a:lnTo>
                  <a:lnTo>
                    <a:pt x="794" y="896"/>
                  </a:lnTo>
                  <a:lnTo>
                    <a:pt x="785" y="926"/>
                  </a:lnTo>
                  <a:lnTo>
                    <a:pt x="775" y="956"/>
                  </a:lnTo>
                  <a:lnTo>
                    <a:pt x="765" y="987"/>
                  </a:lnTo>
                  <a:lnTo>
                    <a:pt x="752" y="1026"/>
                  </a:lnTo>
                  <a:lnTo>
                    <a:pt x="738" y="1065"/>
                  </a:lnTo>
                  <a:lnTo>
                    <a:pt x="965" y="1157"/>
                  </a:lnTo>
                  <a:lnTo>
                    <a:pt x="395" y="1217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6" name="Freeform 13"/>
            <p:cNvSpPr/>
            <p:nvPr/>
          </p:nvSpPr>
          <p:spPr>
            <a:xfrm>
              <a:off x="7464960" y="304920"/>
              <a:ext cx="835920" cy="655560"/>
            </a:xfrm>
            <a:custGeom>
              <a:avLst/>
              <a:gdLst/>
              <a:ahLst/>
              <a:rect l="l" t="t" r="r" b="b"/>
              <a:pathLst>
                <a:path w="1091" h="881">
                  <a:moveTo>
                    <a:pt x="582" y="881"/>
                  </a:moveTo>
                  <a:lnTo>
                    <a:pt x="653" y="710"/>
                  </a:lnTo>
                  <a:lnTo>
                    <a:pt x="630" y="702"/>
                  </a:lnTo>
                  <a:lnTo>
                    <a:pt x="605" y="697"/>
                  </a:lnTo>
                  <a:lnTo>
                    <a:pt x="572" y="690"/>
                  </a:lnTo>
                  <a:lnTo>
                    <a:pt x="545" y="685"/>
                  </a:lnTo>
                  <a:lnTo>
                    <a:pt x="515" y="681"/>
                  </a:lnTo>
                  <a:lnTo>
                    <a:pt x="482" y="678"/>
                  </a:lnTo>
                  <a:lnTo>
                    <a:pt x="448" y="675"/>
                  </a:lnTo>
                  <a:lnTo>
                    <a:pt x="386" y="675"/>
                  </a:lnTo>
                  <a:lnTo>
                    <a:pt x="355" y="677"/>
                  </a:lnTo>
                  <a:lnTo>
                    <a:pt x="325" y="680"/>
                  </a:lnTo>
                  <a:lnTo>
                    <a:pt x="295" y="683"/>
                  </a:lnTo>
                  <a:lnTo>
                    <a:pt x="265" y="688"/>
                  </a:lnTo>
                  <a:lnTo>
                    <a:pt x="236" y="694"/>
                  </a:lnTo>
                  <a:lnTo>
                    <a:pt x="202" y="701"/>
                  </a:lnTo>
                  <a:lnTo>
                    <a:pt x="172" y="711"/>
                  </a:lnTo>
                  <a:lnTo>
                    <a:pt x="251" y="349"/>
                  </a:lnTo>
                  <a:lnTo>
                    <a:pt x="0" y="204"/>
                  </a:lnTo>
                  <a:lnTo>
                    <a:pt x="12" y="200"/>
                  </a:lnTo>
                  <a:lnTo>
                    <a:pt x="38" y="192"/>
                  </a:lnTo>
                  <a:lnTo>
                    <a:pt x="58" y="186"/>
                  </a:lnTo>
                  <a:lnTo>
                    <a:pt x="81" y="179"/>
                  </a:lnTo>
                  <a:lnTo>
                    <a:pt x="108" y="173"/>
                  </a:lnTo>
                  <a:lnTo>
                    <a:pt x="131" y="167"/>
                  </a:lnTo>
                  <a:lnTo>
                    <a:pt x="161" y="160"/>
                  </a:lnTo>
                  <a:lnTo>
                    <a:pt x="187" y="156"/>
                  </a:lnTo>
                  <a:lnTo>
                    <a:pt x="216" y="152"/>
                  </a:lnTo>
                  <a:lnTo>
                    <a:pt x="248" y="147"/>
                  </a:lnTo>
                  <a:lnTo>
                    <a:pt x="278" y="144"/>
                  </a:lnTo>
                  <a:lnTo>
                    <a:pt x="312" y="143"/>
                  </a:lnTo>
                  <a:lnTo>
                    <a:pt x="345" y="140"/>
                  </a:lnTo>
                  <a:lnTo>
                    <a:pt x="378" y="140"/>
                  </a:lnTo>
                  <a:lnTo>
                    <a:pt x="412" y="140"/>
                  </a:lnTo>
                  <a:lnTo>
                    <a:pt x="455" y="140"/>
                  </a:lnTo>
                  <a:lnTo>
                    <a:pt x="493" y="142"/>
                  </a:lnTo>
                  <a:lnTo>
                    <a:pt x="519" y="143"/>
                  </a:lnTo>
                  <a:lnTo>
                    <a:pt x="550" y="146"/>
                  </a:lnTo>
                  <a:lnTo>
                    <a:pt x="580" y="149"/>
                  </a:lnTo>
                  <a:lnTo>
                    <a:pt x="616" y="153"/>
                  </a:lnTo>
                  <a:lnTo>
                    <a:pt x="646" y="159"/>
                  </a:lnTo>
                  <a:lnTo>
                    <a:pt x="675" y="164"/>
                  </a:lnTo>
                  <a:lnTo>
                    <a:pt x="712" y="172"/>
                  </a:lnTo>
                  <a:lnTo>
                    <a:pt x="740" y="179"/>
                  </a:lnTo>
                  <a:lnTo>
                    <a:pt x="774" y="187"/>
                  </a:lnTo>
                  <a:lnTo>
                    <a:pt x="803" y="194"/>
                  </a:lnTo>
                  <a:lnTo>
                    <a:pt x="834" y="204"/>
                  </a:lnTo>
                  <a:lnTo>
                    <a:pt x="866" y="214"/>
                  </a:lnTo>
                  <a:lnTo>
                    <a:pt x="959" y="0"/>
                  </a:lnTo>
                  <a:lnTo>
                    <a:pt x="1091" y="597"/>
                  </a:lnTo>
                  <a:lnTo>
                    <a:pt x="582" y="881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0A66-EC7B-4CB5-82E3-1F61EC409B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42184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urces of Information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Print materia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- over 28,000 book stores selling over 3m  titles (June 23-25 -- Harry Potter book outgross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Hul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ovie!) + newspapers and magaz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Phones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- individual to individual + underpins information revolution – audio, text, and now full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Audio, Radio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- news, entertainment,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Video, TV, DVD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- multiple info.formats, multi-access,  and now computer networks over TV infrastructu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CDs, Databases, Internet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Social Media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use growing exponenti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Libraries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- institutional support to individuals, groups, organizations -- esp. important for self-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2994-E6F4-4544-B4F0-B7AA94DBD1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0100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e System of Scholarly Communication 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685800" y="1600200"/>
            <a:ext cx="7696080" cy="48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d as:  “the social phenomenon whereby intellectual and creative activity is transmitted from one scholar to another” (ARL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nen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ors, writer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as, knowledge created (stock of knowledge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al communications (“invisible college,” conference papers, listservs, blogs, tweets?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ns of formal review and communic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ns of distribution and access (all formats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umers of information (scholars &amp; potential scholar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E8CE-87D1-4075-9493-C3769FF203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Role of the Library in the Scholarly Communication System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762120" y="2514600"/>
            <a:ext cx="76960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ys the role of “channel” through which scholarly information is transferred from the scholar to scholar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itional functions (acquisitions, organization, dissemination, preservation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s bibliographic utilities, resource-sharing, document deliver, networks, consortia, etc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48CD-2554-4416-8ECE-29D5498077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nformation Science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tudy of the properties and behavior of information, the forces that influence it, and the means of processing information for optimal access and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ots in Wiener’s theory of cybernetics and Shannon’s information the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ure of information sc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es on information, regardless of me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ludes entire information cycle, from creation to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disciplin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hasizes access and use (like librari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yet a distinct discip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ance to librarians:  WHY not W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12FC-A3BD-4BFD-8579-F2EF9326C2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21480" cy="95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formation Science:  Info Needs, Info-Seeking, Info Use, &amp; Info User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74040" cy="347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o users solve information problem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66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ices, systems, &amp;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66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characteristics (age, education, discip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66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ation-seeking vs. information gath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dynamic process of information seek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66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tion, selection, exploration, formulation, collection, pres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o user abilities affect information-seek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ffff66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le of least eff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barriers affect information- seeking and information u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ffff66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al, policies, financial, legal,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EDDB-1971-468B-8BE8-3ACAA24B50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842148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formation Science:  Information Storage &amp; Retrieva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086600" cy="347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jor area of research and develop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ion of information retrieval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66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ll &amp; prec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66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strategies &amp; Boolean log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base and file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66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esign affects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-human inte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ificial Intelligence (AI) &amp; expert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05E8-1BAE-4D77-884B-CF8162461A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421840" cy="95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formation Science:  Bibliometrics &amp; Citation Analysi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740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</a:rPr>
              <a:t>Bibliometric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application of quantitative methods to the study of information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66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oader understanding of disciplines (including national con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66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ication of key authors (Lotka’s Law 1/n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66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ication of key periodicals -- distribution of articles among periodicals (Bradford’s La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66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rculation studies (inside and outside the library), aging studies,  collection overlap 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</a:rPr>
              <a:t>Citation analy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study of the frequency and pattern of cit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66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lications for collection development by identifying influential works, authors, pub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3BC1-D07B-4536-8919-B2762260B8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nformation Science as </a:t>
            </a:r>
            <a:r>
              <a:rPr b="0" i="1" lang="en-US" sz="4000" spc="-1" strike="noStrike">
                <a:solidFill>
                  <a:srgbClr val="ffffff"/>
                </a:solidFill>
                <a:latin typeface="Arial Black"/>
              </a:rPr>
              <a:t>Deinstitutionalized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Library Science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69960" y="2574720"/>
            <a:ext cx="77882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brary without wall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ludes the entire world of information as its “collection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brarian or information scientist as facilit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es on use of information to meet human nee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EAF5-5D64-43C2-A5EB-DC5E66E861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421840" cy="87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e Context for Librarie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016840" cy="341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Soci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Infra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Networks &amp; Servic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Cycle/System of Scholarly Commun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The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Sc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Poli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50DC-361C-43C3-B73A-5427548736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nformation Policy 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457200" y="1676520"/>
            <a:ext cx="80773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d as “any law, regulation, rule, or practice (written or unwritten) that affects the creation, acquisition, organization, dissemination, or evaluation of informa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ly discussed in terms of government legisla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ludes information technologies for educational and industrial uses; telecommunications; privacy issues; computer regulations and crimes; copyright and intellectual freedom; and government information system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viewed as a “totality” until Clinton/Gore administra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8712-9F26-4A85-9085-01A7597158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42184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nformation Policy:  Privacy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609480" y="1219320"/>
            <a:ext cx="807732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wing concern that unauthorized individuals can gain access too easily to our personal information (hence the rise of special protection for credit, health, and other information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ction from third party intrusion, ranging from individual to government (hence professional concerns with the Patriot Act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  Right to Financial Privacy Act, Children’s Online Privacy Protection Act (COPPA), state laws protecting library circulation records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-Mining Reporting Act 2005 – would require head of each government department that uses data-mining to submit public report to Congress – still in committe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AE41-BA2C-4011-AFB9-9B77FFC901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2148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Information Policy:  Access (Freedom of Information &amp; Control of Government Info)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533520" y="1828800"/>
            <a:ext cx="807696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records laws (provide access for the public to public records) -- sunshine laws -- prevent governments or public offices from withholding information that might be considered politically harmful or embarrass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-conscious efforts of agencies pose barriers to free access, including IT and privatization (profit motive drives what is published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  Freedom of Information Act, Paperwork Reduction Act, GPO and Federal Depository Library Program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7C69-77C6-4843-9682-90ABD1D6B4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21480" cy="156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Information Policy:  Copyright &amp; Intellectual Property Rights in the Library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04920" y="2209680"/>
            <a:ext cx="74674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braries are creatures of the historical and statutory balance in copyright law.” (ALA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supervised copying (photocopiers &amp; computers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erv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library loans  (CONTU)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media produc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base licens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ir Us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chival function – to preserve – libraries seek incentives to be able to retain and preserve all formats, including electronic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213" name="Group 39"/>
          <p:cNvGrpSpPr/>
          <p:nvPr/>
        </p:nvGrpSpPr>
        <p:grpSpPr>
          <a:xfrm>
            <a:off x="6095880" y="2895480"/>
            <a:ext cx="2437920" cy="3400920"/>
            <a:chOff x="6095880" y="2895480"/>
            <a:chExt cx="2437920" cy="3400920"/>
          </a:xfrm>
        </p:grpSpPr>
        <p:grpSp>
          <p:nvGrpSpPr>
            <p:cNvPr id="214" name="Group 13"/>
            <p:cNvGrpSpPr/>
            <p:nvPr/>
          </p:nvGrpSpPr>
          <p:grpSpPr>
            <a:xfrm>
              <a:off x="6652800" y="3823560"/>
              <a:ext cx="1881000" cy="2472840"/>
              <a:chOff x="6652800" y="3823560"/>
              <a:chExt cx="1881000" cy="2472840"/>
            </a:xfrm>
          </p:grpSpPr>
          <p:sp>
            <p:nvSpPr>
              <p:cNvPr id="215" name="Freeform 7"/>
              <p:cNvSpPr/>
              <p:nvPr/>
            </p:nvSpPr>
            <p:spPr>
              <a:xfrm>
                <a:off x="7476480" y="4645080"/>
                <a:ext cx="438840" cy="874080"/>
              </a:xfrm>
              <a:custGeom>
                <a:avLst/>
                <a:gdLst/>
                <a:ahLst/>
                <a:rect l="l" t="t" r="r" b="b"/>
                <a:pathLst>
                  <a:path w="454" h="904">
                    <a:moveTo>
                      <a:pt x="107" y="73"/>
                    </a:moveTo>
                    <a:lnTo>
                      <a:pt x="156" y="20"/>
                    </a:lnTo>
                    <a:lnTo>
                      <a:pt x="249" y="0"/>
                    </a:lnTo>
                    <a:lnTo>
                      <a:pt x="328" y="20"/>
                    </a:lnTo>
                    <a:lnTo>
                      <a:pt x="373" y="49"/>
                    </a:lnTo>
                    <a:lnTo>
                      <a:pt x="408" y="108"/>
                    </a:lnTo>
                    <a:lnTo>
                      <a:pt x="439" y="213"/>
                    </a:lnTo>
                    <a:lnTo>
                      <a:pt x="454" y="326"/>
                    </a:lnTo>
                    <a:lnTo>
                      <a:pt x="454" y="530"/>
                    </a:lnTo>
                    <a:lnTo>
                      <a:pt x="408" y="707"/>
                    </a:lnTo>
                    <a:lnTo>
                      <a:pt x="342" y="807"/>
                    </a:lnTo>
                    <a:lnTo>
                      <a:pt x="275" y="865"/>
                    </a:lnTo>
                    <a:lnTo>
                      <a:pt x="200" y="904"/>
                    </a:lnTo>
                    <a:lnTo>
                      <a:pt x="94" y="900"/>
                    </a:lnTo>
                    <a:lnTo>
                      <a:pt x="10" y="839"/>
                    </a:lnTo>
                    <a:lnTo>
                      <a:pt x="0" y="767"/>
                    </a:lnTo>
                    <a:lnTo>
                      <a:pt x="41" y="660"/>
                    </a:lnTo>
                    <a:lnTo>
                      <a:pt x="76" y="539"/>
                    </a:lnTo>
                    <a:lnTo>
                      <a:pt x="90" y="382"/>
                    </a:lnTo>
                    <a:lnTo>
                      <a:pt x="68" y="250"/>
                    </a:lnTo>
                    <a:lnTo>
                      <a:pt x="68" y="152"/>
                    </a:lnTo>
                    <a:lnTo>
                      <a:pt x="107" y="7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16" name="Freeform 8"/>
              <p:cNvSpPr/>
              <p:nvPr/>
            </p:nvSpPr>
            <p:spPr>
              <a:xfrm>
                <a:off x="7646400" y="5422680"/>
                <a:ext cx="502200" cy="860040"/>
              </a:xfrm>
              <a:custGeom>
                <a:avLst/>
                <a:gdLst/>
                <a:ahLst/>
                <a:rect l="l" t="t" r="r" b="b"/>
                <a:pathLst>
                  <a:path w="519" h="891">
                    <a:moveTo>
                      <a:pt x="173" y="37"/>
                    </a:moveTo>
                    <a:lnTo>
                      <a:pt x="111" y="0"/>
                    </a:lnTo>
                    <a:lnTo>
                      <a:pt x="31" y="0"/>
                    </a:lnTo>
                    <a:lnTo>
                      <a:pt x="0" y="49"/>
                    </a:lnTo>
                    <a:lnTo>
                      <a:pt x="13" y="121"/>
                    </a:lnTo>
                    <a:lnTo>
                      <a:pt x="84" y="192"/>
                    </a:lnTo>
                    <a:lnTo>
                      <a:pt x="230" y="257"/>
                    </a:lnTo>
                    <a:lnTo>
                      <a:pt x="398" y="395"/>
                    </a:lnTo>
                    <a:lnTo>
                      <a:pt x="425" y="456"/>
                    </a:lnTo>
                    <a:lnTo>
                      <a:pt x="411" y="484"/>
                    </a:lnTo>
                    <a:lnTo>
                      <a:pt x="283" y="575"/>
                    </a:lnTo>
                    <a:lnTo>
                      <a:pt x="133" y="684"/>
                    </a:lnTo>
                    <a:lnTo>
                      <a:pt x="97" y="731"/>
                    </a:lnTo>
                    <a:lnTo>
                      <a:pt x="97" y="780"/>
                    </a:lnTo>
                    <a:lnTo>
                      <a:pt x="212" y="832"/>
                    </a:lnTo>
                    <a:lnTo>
                      <a:pt x="389" y="891"/>
                    </a:lnTo>
                    <a:lnTo>
                      <a:pt x="451" y="891"/>
                    </a:lnTo>
                    <a:lnTo>
                      <a:pt x="519" y="851"/>
                    </a:lnTo>
                    <a:lnTo>
                      <a:pt x="519" y="820"/>
                    </a:lnTo>
                    <a:lnTo>
                      <a:pt x="469" y="804"/>
                    </a:lnTo>
                    <a:lnTo>
                      <a:pt x="243" y="780"/>
                    </a:lnTo>
                    <a:lnTo>
                      <a:pt x="159" y="759"/>
                    </a:lnTo>
                    <a:lnTo>
                      <a:pt x="151" y="724"/>
                    </a:lnTo>
                    <a:lnTo>
                      <a:pt x="296" y="624"/>
                    </a:lnTo>
                    <a:lnTo>
                      <a:pt x="456" y="528"/>
                    </a:lnTo>
                    <a:lnTo>
                      <a:pt x="491" y="493"/>
                    </a:lnTo>
                    <a:lnTo>
                      <a:pt x="504" y="444"/>
                    </a:lnTo>
                    <a:lnTo>
                      <a:pt x="491" y="376"/>
                    </a:lnTo>
                    <a:lnTo>
                      <a:pt x="442" y="324"/>
                    </a:lnTo>
                    <a:lnTo>
                      <a:pt x="283" y="149"/>
                    </a:lnTo>
                    <a:lnTo>
                      <a:pt x="173" y="3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17" name="Freeform 9"/>
              <p:cNvSpPr/>
              <p:nvPr/>
            </p:nvSpPr>
            <p:spPr>
              <a:xfrm>
                <a:off x="6987240" y="5380200"/>
                <a:ext cx="624240" cy="916200"/>
              </a:xfrm>
              <a:custGeom>
                <a:avLst/>
                <a:gdLst/>
                <a:ahLst/>
                <a:rect l="l" t="t" r="r" b="b"/>
                <a:pathLst>
                  <a:path w="645" h="948">
                    <a:moveTo>
                      <a:pt x="350" y="128"/>
                    </a:moveTo>
                    <a:lnTo>
                      <a:pt x="454" y="47"/>
                    </a:lnTo>
                    <a:lnTo>
                      <a:pt x="551" y="0"/>
                    </a:lnTo>
                    <a:lnTo>
                      <a:pt x="613" y="7"/>
                    </a:lnTo>
                    <a:lnTo>
                      <a:pt x="645" y="47"/>
                    </a:lnTo>
                    <a:lnTo>
                      <a:pt x="645" y="91"/>
                    </a:lnTo>
                    <a:lnTo>
                      <a:pt x="626" y="140"/>
                    </a:lnTo>
                    <a:lnTo>
                      <a:pt x="560" y="168"/>
                    </a:lnTo>
                    <a:lnTo>
                      <a:pt x="426" y="236"/>
                    </a:lnTo>
                    <a:lnTo>
                      <a:pt x="346" y="320"/>
                    </a:lnTo>
                    <a:lnTo>
                      <a:pt x="293" y="420"/>
                    </a:lnTo>
                    <a:lnTo>
                      <a:pt x="280" y="479"/>
                    </a:lnTo>
                    <a:lnTo>
                      <a:pt x="350" y="551"/>
                    </a:lnTo>
                    <a:lnTo>
                      <a:pt x="426" y="656"/>
                    </a:lnTo>
                    <a:lnTo>
                      <a:pt x="480" y="752"/>
                    </a:lnTo>
                    <a:lnTo>
                      <a:pt x="493" y="812"/>
                    </a:lnTo>
                    <a:lnTo>
                      <a:pt x="493" y="848"/>
                    </a:lnTo>
                    <a:lnTo>
                      <a:pt x="458" y="871"/>
                    </a:lnTo>
                    <a:lnTo>
                      <a:pt x="346" y="876"/>
                    </a:lnTo>
                    <a:lnTo>
                      <a:pt x="177" y="911"/>
                    </a:lnTo>
                    <a:lnTo>
                      <a:pt x="146" y="944"/>
                    </a:lnTo>
                    <a:lnTo>
                      <a:pt x="119" y="948"/>
                    </a:lnTo>
                    <a:lnTo>
                      <a:pt x="0" y="911"/>
                    </a:lnTo>
                    <a:lnTo>
                      <a:pt x="0" y="876"/>
                    </a:lnTo>
                    <a:lnTo>
                      <a:pt x="53" y="848"/>
                    </a:lnTo>
                    <a:lnTo>
                      <a:pt x="266" y="812"/>
                    </a:lnTo>
                    <a:lnTo>
                      <a:pt x="377" y="824"/>
                    </a:lnTo>
                    <a:lnTo>
                      <a:pt x="432" y="824"/>
                    </a:lnTo>
                    <a:lnTo>
                      <a:pt x="445" y="803"/>
                    </a:lnTo>
                    <a:lnTo>
                      <a:pt x="399" y="715"/>
                    </a:lnTo>
                    <a:lnTo>
                      <a:pt x="306" y="600"/>
                    </a:lnTo>
                    <a:lnTo>
                      <a:pt x="240" y="516"/>
                    </a:lnTo>
                    <a:lnTo>
                      <a:pt x="213" y="467"/>
                    </a:lnTo>
                    <a:lnTo>
                      <a:pt x="213" y="395"/>
                    </a:lnTo>
                    <a:lnTo>
                      <a:pt x="258" y="276"/>
                    </a:lnTo>
                    <a:lnTo>
                      <a:pt x="297" y="200"/>
                    </a:lnTo>
                    <a:lnTo>
                      <a:pt x="350" y="12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18" name="Freeform 10"/>
              <p:cNvSpPr/>
              <p:nvPr/>
            </p:nvSpPr>
            <p:spPr>
              <a:xfrm>
                <a:off x="6652800" y="4647240"/>
                <a:ext cx="842760" cy="684360"/>
              </a:xfrm>
              <a:custGeom>
                <a:avLst/>
                <a:gdLst/>
                <a:ahLst/>
                <a:rect l="l" t="t" r="r" b="b"/>
                <a:pathLst>
                  <a:path w="873" h="708">
                    <a:moveTo>
                      <a:pt x="524" y="708"/>
                    </a:moveTo>
                    <a:lnTo>
                      <a:pt x="578" y="702"/>
                    </a:lnTo>
                    <a:lnTo>
                      <a:pt x="594" y="662"/>
                    </a:lnTo>
                    <a:lnTo>
                      <a:pt x="609" y="519"/>
                    </a:lnTo>
                    <a:lnTo>
                      <a:pt x="690" y="351"/>
                    </a:lnTo>
                    <a:lnTo>
                      <a:pt x="774" y="274"/>
                    </a:lnTo>
                    <a:lnTo>
                      <a:pt x="873" y="195"/>
                    </a:lnTo>
                    <a:lnTo>
                      <a:pt x="864" y="139"/>
                    </a:lnTo>
                    <a:lnTo>
                      <a:pt x="805" y="109"/>
                    </a:lnTo>
                    <a:lnTo>
                      <a:pt x="731" y="139"/>
                    </a:lnTo>
                    <a:lnTo>
                      <a:pt x="650" y="220"/>
                    </a:lnTo>
                    <a:lnTo>
                      <a:pt x="575" y="397"/>
                    </a:lnTo>
                    <a:lnTo>
                      <a:pt x="543" y="534"/>
                    </a:lnTo>
                    <a:lnTo>
                      <a:pt x="521" y="606"/>
                    </a:lnTo>
                    <a:lnTo>
                      <a:pt x="459" y="579"/>
                    </a:lnTo>
                    <a:lnTo>
                      <a:pt x="389" y="461"/>
                    </a:lnTo>
                    <a:lnTo>
                      <a:pt x="332" y="298"/>
                    </a:lnTo>
                    <a:lnTo>
                      <a:pt x="342" y="224"/>
                    </a:lnTo>
                    <a:lnTo>
                      <a:pt x="375" y="146"/>
                    </a:lnTo>
                    <a:lnTo>
                      <a:pt x="388" y="88"/>
                    </a:lnTo>
                    <a:lnTo>
                      <a:pt x="246" y="85"/>
                    </a:lnTo>
                    <a:lnTo>
                      <a:pt x="105" y="62"/>
                    </a:lnTo>
                    <a:lnTo>
                      <a:pt x="39" y="0"/>
                    </a:lnTo>
                    <a:lnTo>
                      <a:pt x="0" y="29"/>
                    </a:lnTo>
                    <a:lnTo>
                      <a:pt x="52" y="136"/>
                    </a:lnTo>
                    <a:lnTo>
                      <a:pt x="165" y="147"/>
                    </a:lnTo>
                    <a:lnTo>
                      <a:pt x="288" y="159"/>
                    </a:lnTo>
                    <a:lnTo>
                      <a:pt x="291" y="252"/>
                    </a:lnTo>
                    <a:lnTo>
                      <a:pt x="302" y="360"/>
                    </a:lnTo>
                    <a:lnTo>
                      <a:pt x="344" y="481"/>
                    </a:lnTo>
                    <a:lnTo>
                      <a:pt x="395" y="600"/>
                    </a:lnTo>
                    <a:lnTo>
                      <a:pt x="473" y="680"/>
                    </a:lnTo>
                    <a:lnTo>
                      <a:pt x="524" y="70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19" name="Freeform 11"/>
              <p:cNvSpPr/>
              <p:nvPr/>
            </p:nvSpPr>
            <p:spPr>
              <a:xfrm>
                <a:off x="7913160" y="3823560"/>
                <a:ext cx="620640" cy="924120"/>
              </a:xfrm>
              <a:custGeom>
                <a:avLst/>
                <a:gdLst/>
                <a:ahLst/>
                <a:rect l="l" t="t" r="r" b="b"/>
                <a:pathLst>
                  <a:path w="643" h="957">
                    <a:moveTo>
                      <a:pt x="0" y="948"/>
                    </a:moveTo>
                    <a:lnTo>
                      <a:pt x="0" y="884"/>
                    </a:lnTo>
                    <a:lnTo>
                      <a:pt x="40" y="836"/>
                    </a:lnTo>
                    <a:lnTo>
                      <a:pt x="214" y="780"/>
                    </a:lnTo>
                    <a:lnTo>
                      <a:pt x="429" y="732"/>
                    </a:lnTo>
                    <a:lnTo>
                      <a:pt x="553" y="704"/>
                    </a:lnTo>
                    <a:lnTo>
                      <a:pt x="567" y="679"/>
                    </a:lnTo>
                    <a:lnTo>
                      <a:pt x="508" y="609"/>
                    </a:lnTo>
                    <a:lnTo>
                      <a:pt x="392" y="504"/>
                    </a:lnTo>
                    <a:lnTo>
                      <a:pt x="273" y="415"/>
                    </a:lnTo>
                    <a:lnTo>
                      <a:pt x="178" y="368"/>
                    </a:lnTo>
                    <a:lnTo>
                      <a:pt x="125" y="320"/>
                    </a:lnTo>
                    <a:lnTo>
                      <a:pt x="121" y="284"/>
                    </a:lnTo>
                    <a:lnTo>
                      <a:pt x="152" y="252"/>
                    </a:lnTo>
                    <a:lnTo>
                      <a:pt x="227" y="236"/>
                    </a:lnTo>
                    <a:lnTo>
                      <a:pt x="321" y="175"/>
                    </a:lnTo>
                    <a:lnTo>
                      <a:pt x="334" y="116"/>
                    </a:lnTo>
                    <a:lnTo>
                      <a:pt x="334" y="32"/>
                    </a:lnTo>
                    <a:lnTo>
                      <a:pt x="326" y="0"/>
                    </a:lnTo>
                    <a:lnTo>
                      <a:pt x="361" y="7"/>
                    </a:lnTo>
                    <a:lnTo>
                      <a:pt x="411" y="79"/>
                    </a:lnTo>
                    <a:lnTo>
                      <a:pt x="429" y="156"/>
                    </a:lnTo>
                    <a:lnTo>
                      <a:pt x="374" y="212"/>
                    </a:lnTo>
                    <a:lnTo>
                      <a:pt x="326" y="228"/>
                    </a:lnTo>
                    <a:lnTo>
                      <a:pt x="231" y="272"/>
                    </a:lnTo>
                    <a:lnTo>
                      <a:pt x="214" y="296"/>
                    </a:lnTo>
                    <a:lnTo>
                      <a:pt x="227" y="320"/>
                    </a:lnTo>
                    <a:lnTo>
                      <a:pt x="312" y="384"/>
                    </a:lnTo>
                    <a:lnTo>
                      <a:pt x="402" y="420"/>
                    </a:lnTo>
                    <a:lnTo>
                      <a:pt x="522" y="511"/>
                    </a:lnTo>
                    <a:lnTo>
                      <a:pt x="603" y="620"/>
                    </a:lnTo>
                    <a:lnTo>
                      <a:pt x="643" y="704"/>
                    </a:lnTo>
                    <a:lnTo>
                      <a:pt x="629" y="732"/>
                    </a:lnTo>
                    <a:lnTo>
                      <a:pt x="603" y="752"/>
                    </a:lnTo>
                    <a:lnTo>
                      <a:pt x="500" y="789"/>
                    </a:lnTo>
                    <a:lnTo>
                      <a:pt x="295" y="849"/>
                    </a:lnTo>
                    <a:lnTo>
                      <a:pt x="165" y="901"/>
                    </a:lnTo>
                    <a:lnTo>
                      <a:pt x="81" y="945"/>
                    </a:lnTo>
                    <a:lnTo>
                      <a:pt x="26" y="957"/>
                    </a:lnTo>
                    <a:lnTo>
                      <a:pt x="0" y="94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20" name="Freeform 12"/>
              <p:cNvSpPr/>
              <p:nvPr/>
            </p:nvSpPr>
            <p:spPr>
              <a:xfrm>
                <a:off x="7302240" y="3960720"/>
                <a:ext cx="485280" cy="659160"/>
              </a:xfrm>
              <a:custGeom>
                <a:avLst/>
                <a:gdLst/>
                <a:ahLst/>
                <a:rect l="l" t="t" r="r" b="b"/>
                <a:pathLst>
                  <a:path w="501" h="681">
                    <a:moveTo>
                      <a:pt x="102" y="553"/>
                    </a:moveTo>
                    <a:lnTo>
                      <a:pt x="159" y="613"/>
                    </a:lnTo>
                    <a:lnTo>
                      <a:pt x="253" y="669"/>
                    </a:lnTo>
                    <a:lnTo>
                      <a:pt x="333" y="681"/>
                    </a:lnTo>
                    <a:lnTo>
                      <a:pt x="393" y="669"/>
                    </a:lnTo>
                    <a:lnTo>
                      <a:pt x="466" y="622"/>
                    </a:lnTo>
                    <a:lnTo>
                      <a:pt x="492" y="525"/>
                    </a:lnTo>
                    <a:lnTo>
                      <a:pt x="501" y="452"/>
                    </a:lnTo>
                    <a:lnTo>
                      <a:pt x="479" y="385"/>
                    </a:lnTo>
                    <a:lnTo>
                      <a:pt x="438" y="300"/>
                    </a:lnTo>
                    <a:lnTo>
                      <a:pt x="399" y="228"/>
                    </a:lnTo>
                    <a:lnTo>
                      <a:pt x="393" y="212"/>
                    </a:lnTo>
                    <a:lnTo>
                      <a:pt x="411" y="128"/>
                    </a:lnTo>
                    <a:lnTo>
                      <a:pt x="466" y="44"/>
                    </a:lnTo>
                    <a:lnTo>
                      <a:pt x="475" y="19"/>
                    </a:lnTo>
                    <a:lnTo>
                      <a:pt x="447" y="0"/>
                    </a:lnTo>
                    <a:lnTo>
                      <a:pt x="411" y="0"/>
                    </a:lnTo>
                    <a:lnTo>
                      <a:pt x="373" y="109"/>
                    </a:lnTo>
                    <a:lnTo>
                      <a:pt x="355" y="180"/>
                    </a:lnTo>
                    <a:lnTo>
                      <a:pt x="307" y="132"/>
                    </a:lnTo>
                    <a:lnTo>
                      <a:pt x="265" y="95"/>
                    </a:lnTo>
                    <a:lnTo>
                      <a:pt x="181" y="67"/>
                    </a:lnTo>
                    <a:lnTo>
                      <a:pt x="119" y="67"/>
                    </a:lnTo>
                    <a:lnTo>
                      <a:pt x="26" y="109"/>
                    </a:lnTo>
                    <a:lnTo>
                      <a:pt x="0" y="224"/>
                    </a:lnTo>
                    <a:lnTo>
                      <a:pt x="22" y="373"/>
                    </a:lnTo>
                    <a:lnTo>
                      <a:pt x="62" y="513"/>
                    </a:lnTo>
                    <a:lnTo>
                      <a:pt x="102" y="55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sp>
          <p:nvSpPr>
            <p:cNvPr id="221" name="Freeform 14"/>
            <p:cNvSpPr/>
            <p:nvPr/>
          </p:nvSpPr>
          <p:spPr>
            <a:xfrm>
              <a:off x="6673680" y="3048480"/>
              <a:ext cx="783000" cy="289800"/>
            </a:xfrm>
            <a:custGeom>
              <a:avLst/>
              <a:gdLst/>
              <a:ahLst/>
              <a:rect l="l" t="t" r="r" b="b"/>
              <a:pathLst>
                <a:path w="810" h="299">
                  <a:moveTo>
                    <a:pt x="31" y="267"/>
                  </a:moveTo>
                  <a:lnTo>
                    <a:pt x="70" y="273"/>
                  </a:lnTo>
                  <a:lnTo>
                    <a:pt x="169" y="265"/>
                  </a:lnTo>
                  <a:lnTo>
                    <a:pt x="192" y="239"/>
                  </a:lnTo>
                  <a:lnTo>
                    <a:pt x="182" y="194"/>
                  </a:lnTo>
                  <a:lnTo>
                    <a:pt x="157" y="165"/>
                  </a:lnTo>
                  <a:lnTo>
                    <a:pt x="157" y="144"/>
                  </a:lnTo>
                  <a:lnTo>
                    <a:pt x="217" y="118"/>
                  </a:lnTo>
                  <a:lnTo>
                    <a:pt x="291" y="116"/>
                  </a:lnTo>
                  <a:lnTo>
                    <a:pt x="387" y="128"/>
                  </a:lnTo>
                  <a:lnTo>
                    <a:pt x="462" y="159"/>
                  </a:lnTo>
                  <a:lnTo>
                    <a:pt x="500" y="180"/>
                  </a:lnTo>
                  <a:lnTo>
                    <a:pt x="497" y="200"/>
                  </a:lnTo>
                  <a:lnTo>
                    <a:pt x="490" y="233"/>
                  </a:lnTo>
                  <a:lnTo>
                    <a:pt x="496" y="274"/>
                  </a:lnTo>
                  <a:lnTo>
                    <a:pt x="537" y="293"/>
                  </a:lnTo>
                  <a:lnTo>
                    <a:pt x="621" y="299"/>
                  </a:lnTo>
                  <a:lnTo>
                    <a:pt x="682" y="264"/>
                  </a:lnTo>
                  <a:lnTo>
                    <a:pt x="692" y="230"/>
                  </a:lnTo>
                  <a:lnTo>
                    <a:pt x="674" y="177"/>
                  </a:lnTo>
                  <a:lnTo>
                    <a:pt x="645" y="149"/>
                  </a:lnTo>
                  <a:lnTo>
                    <a:pt x="648" y="116"/>
                  </a:lnTo>
                  <a:lnTo>
                    <a:pt x="680" y="110"/>
                  </a:lnTo>
                  <a:lnTo>
                    <a:pt x="712" y="100"/>
                  </a:lnTo>
                  <a:lnTo>
                    <a:pt x="723" y="54"/>
                  </a:lnTo>
                  <a:lnTo>
                    <a:pt x="748" y="20"/>
                  </a:lnTo>
                  <a:lnTo>
                    <a:pt x="810" y="28"/>
                  </a:lnTo>
                  <a:lnTo>
                    <a:pt x="808" y="10"/>
                  </a:lnTo>
                  <a:lnTo>
                    <a:pt x="751" y="0"/>
                  </a:lnTo>
                  <a:lnTo>
                    <a:pt x="726" y="6"/>
                  </a:lnTo>
                  <a:lnTo>
                    <a:pt x="714" y="31"/>
                  </a:lnTo>
                  <a:lnTo>
                    <a:pt x="708" y="63"/>
                  </a:lnTo>
                  <a:lnTo>
                    <a:pt x="699" y="90"/>
                  </a:lnTo>
                  <a:lnTo>
                    <a:pt x="664" y="97"/>
                  </a:lnTo>
                  <a:lnTo>
                    <a:pt x="634" y="99"/>
                  </a:lnTo>
                  <a:lnTo>
                    <a:pt x="624" y="137"/>
                  </a:lnTo>
                  <a:lnTo>
                    <a:pt x="593" y="109"/>
                  </a:lnTo>
                  <a:lnTo>
                    <a:pt x="484" y="79"/>
                  </a:lnTo>
                  <a:lnTo>
                    <a:pt x="368" y="54"/>
                  </a:lnTo>
                  <a:lnTo>
                    <a:pt x="267" y="50"/>
                  </a:lnTo>
                  <a:lnTo>
                    <a:pt x="180" y="62"/>
                  </a:lnTo>
                  <a:lnTo>
                    <a:pt x="108" y="81"/>
                  </a:lnTo>
                  <a:lnTo>
                    <a:pt x="42" y="103"/>
                  </a:lnTo>
                  <a:lnTo>
                    <a:pt x="3" y="180"/>
                  </a:lnTo>
                  <a:lnTo>
                    <a:pt x="0" y="212"/>
                  </a:lnTo>
                  <a:lnTo>
                    <a:pt x="6" y="242"/>
                  </a:lnTo>
                  <a:lnTo>
                    <a:pt x="31" y="2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222" name="Group 27"/>
            <p:cNvGrpSpPr/>
            <p:nvPr/>
          </p:nvGrpSpPr>
          <p:grpSpPr>
            <a:xfrm>
              <a:off x="6095880" y="3491280"/>
              <a:ext cx="799920" cy="964440"/>
              <a:chOff x="6095880" y="3491280"/>
              <a:chExt cx="799920" cy="964440"/>
            </a:xfrm>
          </p:grpSpPr>
          <p:sp>
            <p:nvSpPr>
              <p:cNvPr id="223" name="Freeform 15"/>
              <p:cNvSpPr/>
              <p:nvPr/>
            </p:nvSpPr>
            <p:spPr>
              <a:xfrm>
                <a:off x="6103080" y="3504240"/>
                <a:ext cx="576000" cy="947520"/>
              </a:xfrm>
              <a:custGeom>
                <a:avLst/>
                <a:gdLst/>
                <a:ahLst/>
                <a:rect l="l" t="t" r="r" b="b"/>
                <a:pathLst>
                  <a:path w="595" h="980">
                    <a:moveTo>
                      <a:pt x="339" y="0"/>
                    </a:moveTo>
                    <a:lnTo>
                      <a:pt x="252" y="4"/>
                    </a:lnTo>
                    <a:lnTo>
                      <a:pt x="202" y="82"/>
                    </a:lnTo>
                    <a:lnTo>
                      <a:pt x="62" y="211"/>
                    </a:lnTo>
                    <a:lnTo>
                      <a:pt x="0" y="281"/>
                    </a:lnTo>
                    <a:lnTo>
                      <a:pt x="41" y="467"/>
                    </a:lnTo>
                    <a:lnTo>
                      <a:pt x="74" y="607"/>
                    </a:lnTo>
                    <a:lnTo>
                      <a:pt x="158" y="769"/>
                    </a:lnTo>
                    <a:lnTo>
                      <a:pt x="302" y="884"/>
                    </a:lnTo>
                    <a:lnTo>
                      <a:pt x="463" y="980"/>
                    </a:lnTo>
                    <a:lnTo>
                      <a:pt x="467" y="955"/>
                    </a:lnTo>
                    <a:lnTo>
                      <a:pt x="479" y="951"/>
                    </a:lnTo>
                    <a:lnTo>
                      <a:pt x="479" y="939"/>
                    </a:lnTo>
                    <a:lnTo>
                      <a:pt x="479" y="926"/>
                    </a:lnTo>
                    <a:lnTo>
                      <a:pt x="479" y="914"/>
                    </a:lnTo>
                    <a:lnTo>
                      <a:pt x="479" y="902"/>
                    </a:lnTo>
                    <a:lnTo>
                      <a:pt x="492" y="898"/>
                    </a:lnTo>
                    <a:lnTo>
                      <a:pt x="504" y="898"/>
                    </a:lnTo>
                    <a:lnTo>
                      <a:pt x="517" y="898"/>
                    </a:lnTo>
                    <a:lnTo>
                      <a:pt x="529" y="889"/>
                    </a:lnTo>
                    <a:lnTo>
                      <a:pt x="529" y="877"/>
                    </a:lnTo>
                    <a:lnTo>
                      <a:pt x="529" y="864"/>
                    </a:lnTo>
                    <a:lnTo>
                      <a:pt x="529" y="852"/>
                    </a:lnTo>
                    <a:lnTo>
                      <a:pt x="542" y="848"/>
                    </a:lnTo>
                    <a:lnTo>
                      <a:pt x="554" y="848"/>
                    </a:lnTo>
                    <a:lnTo>
                      <a:pt x="566" y="848"/>
                    </a:lnTo>
                    <a:lnTo>
                      <a:pt x="575" y="836"/>
                    </a:lnTo>
                    <a:lnTo>
                      <a:pt x="570" y="822"/>
                    </a:lnTo>
                    <a:lnTo>
                      <a:pt x="570" y="811"/>
                    </a:lnTo>
                    <a:lnTo>
                      <a:pt x="584" y="802"/>
                    </a:lnTo>
                    <a:lnTo>
                      <a:pt x="595" y="799"/>
                    </a:lnTo>
                    <a:lnTo>
                      <a:pt x="376" y="703"/>
                    </a:lnTo>
                    <a:lnTo>
                      <a:pt x="161" y="426"/>
                    </a:lnTo>
                    <a:lnTo>
                      <a:pt x="169" y="261"/>
                    </a:lnTo>
                    <a:lnTo>
                      <a:pt x="318" y="87"/>
                    </a:lnTo>
                    <a:lnTo>
                      <a:pt x="339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24" name="Freeform 16"/>
              <p:cNvSpPr/>
              <p:nvPr/>
            </p:nvSpPr>
            <p:spPr>
              <a:xfrm>
                <a:off x="6184800" y="3494520"/>
                <a:ext cx="699480" cy="781200"/>
              </a:xfrm>
              <a:custGeom>
                <a:avLst/>
                <a:gdLst/>
                <a:ahLst/>
                <a:rect l="l" t="t" r="r" b="b"/>
                <a:pathLst>
                  <a:path w="724" h="808">
                    <a:moveTo>
                      <a:pt x="282" y="87"/>
                    </a:moveTo>
                    <a:lnTo>
                      <a:pt x="323" y="224"/>
                    </a:lnTo>
                    <a:lnTo>
                      <a:pt x="372" y="286"/>
                    </a:lnTo>
                    <a:lnTo>
                      <a:pt x="484" y="357"/>
                    </a:lnTo>
                    <a:lnTo>
                      <a:pt x="646" y="373"/>
                    </a:lnTo>
                    <a:lnTo>
                      <a:pt x="724" y="377"/>
                    </a:lnTo>
                    <a:lnTo>
                      <a:pt x="712" y="506"/>
                    </a:lnTo>
                    <a:lnTo>
                      <a:pt x="653" y="655"/>
                    </a:lnTo>
                    <a:lnTo>
                      <a:pt x="550" y="775"/>
                    </a:lnTo>
                    <a:lnTo>
                      <a:pt x="518" y="808"/>
                    </a:lnTo>
                    <a:lnTo>
                      <a:pt x="319" y="780"/>
                    </a:lnTo>
                    <a:lnTo>
                      <a:pt x="165" y="697"/>
                    </a:lnTo>
                    <a:lnTo>
                      <a:pt x="95" y="613"/>
                    </a:lnTo>
                    <a:lnTo>
                      <a:pt x="33" y="432"/>
                    </a:lnTo>
                    <a:lnTo>
                      <a:pt x="0" y="286"/>
                    </a:lnTo>
                    <a:lnTo>
                      <a:pt x="179" y="109"/>
                    </a:lnTo>
                    <a:lnTo>
                      <a:pt x="266" y="0"/>
                    </a:lnTo>
                    <a:lnTo>
                      <a:pt x="282" y="8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25" name="Freeform 17"/>
              <p:cNvSpPr/>
              <p:nvPr/>
            </p:nvSpPr>
            <p:spPr>
              <a:xfrm>
                <a:off x="6095880" y="3491280"/>
                <a:ext cx="799920" cy="964440"/>
              </a:xfrm>
              <a:custGeom>
                <a:avLst/>
                <a:gdLst/>
                <a:ahLst/>
                <a:rect l="l" t="t" r="r" b="b"/>
                <a:pathLst>
                  <a:path w="828" h="999">
                    <a:moveTo>
                      <a:pt x="83" y="282"/>
                    </a:moveTo>
                    <a:lnTo>
                      <a:pt x="199" y="170"/>
                    </a:lnTo>
                    <a:lnTo>
                      <a:pt x="252" y="112"/>
                    </a:lnTo>
                    <a:lnTo>
                      <a:pt x="318" y="25"/>
                    </a:lnTo>
                    <a:lnTo>
                      <a:pt x="270" y="30"/>
                    </a:lnTo>
                    <a:lnTo>
                      <a:pt x="215" y="112"/>
                    </a:lnTo>
                    <a:lnTo>
                      <a:pt x="162" y="158"/>
                    </a:lnTo>
                    <a:lnTo>
                      <a:pt x="57" y="257"/>
                    </a:lnTo>
                    <a:lnTo>
                      <a:pt x="21" y="298"/>
                    </a:lnTo>
                    <a:lnTo>
                      <a:pt x="50" y="419"/>
                    </a:lnTo>
                    <a:lnTo>
                      <a:pt x="83" y="547"/>
                    </a:lnTo>
                    <a:lnTo>
                      <a:pt x="96" y="621"/>
                    </a:lnTo>
                    <a:lnTo>
                      <a:pt x="124" y="692"/>
                    </a:lnTo>
                    <a:lnTo>
                      <a:pt x="158" y="758"/>
                    </a:lnTo>
                    <a:lnTo>
                      <a:pt x="208" y="808"/>
                    </a:lnTo>
                    <a:lnTo>
                      <a:pt x="295" y="870"/>
                    </a:lnTo>
                    <a:lnTo>
                      <a:pt x="373" y="923"/>
                    </a:lnTo>
                    <a:lnTo>
                      <a:pt x="447" y="965"/>
                    </a:lnTo>
                    <a:lnTo>
                      <a:pt x="464" y="965"/>
                    </a:lnTo>
                    <a:lnTo>
                      <a:pt x="464" y="949"/>
                    </a:lnTo>
                    <a:lnTo>
                      <a:pt x="360" y="887"/>
                    </a:lnTo>
                    <a:lnTo>
                      <a:pt x="240" y="813"/>
                    </a:lnTo>
                    <a:lnTo>
                      <a:pt x="174" y="749"/>
                    </a:lnTo>
                    <a:lnTo>
                      <a:pt x="124" y="655"/>
                    </a:lnTo>
                    <a:lnTo>
                      <a:pt x="108" y="573"/>
                    </a:lnTo>
                    <a:lnTo>
                      <a:pt x="133" y="634"/>
                    </a:lnTo>
                    <a:lnTo>
                      <a:pt x="183" y="733"/>
                    </a:lnTo>
                    <a:lnTo>
                      <a:pt x="240" y="783"/>
                    </a:lnTo>
                    <a:lnTo>
                      <a:pt x="295" y="820"/>
                    </a:lnTo>
                    <a:lnTo>
                      <a:pt x="357" y="857"/>
                    </a:lnTo>
                    <a:lnTo>
                      <a:pt x="430" y="912"/>
                    </a:lnTo>
                    <a:lnTo>
                      <a:pt x="469" y="923"/>
                    </a:lnTo>
                    <a:lnTo>
                      <a:pt x="476" y="903"/>
                    </a:lnTo>
                    <a:lnTo>
                      <a:pt x="382" y="850"/>
                    </a:lnTo>
                    <a:lnTo>
                      <a:pt x="444" y="870"/>
                    </a:lnTo>
                    <a:lnTo>
                      <a:pt x="492" y="891"/>
                    </a:lnTo>
                    <a:lnTo>
                      <a:pt x="517" y="891"/>
                    </a:lnTo>
                    <a:lnTo>
                      <a:pt x="522" y="862"/>
                    </a:lnTo>
                    <a:lnTo>
                      <a:pt x="410" y="834"/>
                    </a:lnTo>
                    <a:lnTo>
                      <a:pt x="323" y="804"/>
                    </a:lnTo>
                    <a:lnTo>
                      <a:pt x="252" y="758"/>
                    </a:lnTo>
                    <a:lnTo>
                      <a:pt x="208" y="708"/>
                    </a:lnTo>
                    <a:lnTo>
                      <a:pt x="178" y="651"/>
                    </a:lnTo>
                    <a:lnTo>
                      <a:pt x="240" y="717"/>
                    </a:lnTo>
                    <a:lnTo>
                      <a:pt x="318" y="775"/>
                    </a:lnTo>
                    <a:lnTo>
                      <a:pt x="402" y="808"/>
                    </a:lnTo>
                    <a:lnTo>
                      <a:pt x="485" y="829"/>
                    </a:lnTo>
                    <a:lnTo>
                      <a:pt x="522" y="841"/>
                    </a:lnTo>
                    <a:lnTo>
                      <a:pt x="547" y="845"/>
                    </a:lnTo>
                    <a:lnTo>
                      <a:pt x="568" y="845"/>
                    </a:lnTo>
                    <a:lnTo>
                      <a:pt x="572" y="829"/>
                    </a:lnTo>
                    <a:lnTo>
                      <a:pt x="568" y="816"/>
                    </a:lnTo>
                    <a:lnTo>
                      <a:pt x="460" y="800"/>
                    </a:lnTo>
                    <a:lnTo>
                      <a:pt x="377" y="779"/>
                    </a:lnTo>
                    <a:lnTo>
                      <a:pt x="339" y="758"/>
                    </a:lnTo>
                    <a:lnTo>
                      <a:pt x="282" y="721"/>
                    </a:lnTo>
                    <a:lnTo>
                      <a:pt x="249" y="701"/>
                    </a:lnTo>
                    <a:lnTo>
                      <a:pt x="220" y="667"/>
                    </a:lnTo>
                    <a:lnTo>
                      <a:pt x="183" y="626"/>
                    </a:lnTo>
                    <a:lnTo>
                      <a:pt x="149" y="547"/>
                    </a:lnTo>
                    <a:lnTo>
                      <a:pt x="124" y="468"/>
                    </a:lnTo>
                    <a:lnTo>
                      <a:pt x="99" y="373"/>
                    </a:lnTo>
                    <a:lnTo>
                      <a:pt x="83" y="312"/>
                    </a:lnTo>
                    <a:lnTo>
                      <a:pt x="87" y="298"/>
                    </a:lnTo>
                    <a:lnTo>
                      <a:pt x="99" y="307"/>
                    </a:lnTo>
                    <a:lnTo>
                      <a:pt x="124" y="410"/>
                    </a:lnTo>
                    <a:lnTo>
                      <a:pt x="149" y="497"/>
                    </a:lnTo>
                    <a:lnTo>
                      <a:pt x="183" y="584"/>
                    </a:lnTo>
                    <a:lnTo>
                      <a:pt x="220" y="642"/>
                    </a:lnTo>
                    <a:lnTo>
                      <a:pt x="265" y="692"/>
                    </a:lnTo>
                    <a:lnTo>
                      <a:pt x="339" y="738"/>
                    </a:lnTo>
                    <a:lnTo>
                      <a:pt x="402" y="763"/>
                    </a:lnTo>
                    <a:lnTo>
                      <a:pt x="472" y="783"/>
                    </a:lnTo>
                    <a:lnTo>
                      <a:pt x="547" y="792"/>
                    </a:lnTo>
                    <a:lnTo>
                      <a:pt x="609" y="795"/>
                    </a:lnTo>
                    <a:lnTo>
                      <a:pt x="663" y="742"/>
                    </a:lnTo>
                    <a:lnTo>
                      <a:pt x="700" y="696"/>
                    </a:lnTo>
                    <a:lnTo>
                      <a:pt x="741" y="639"/>
                    </a:lnTo>
                    <a:lnTo>
                      <a:pt x="771" y="575"/>
                    </a:lnTo>
                    <a:lnTo>
                      <a:pt x="792" y="509"/>
                    </a:lnTo>
                    <a:lnTo>
                      <a:pt x="799" y="447"/>
                    </a:lnTo>
                    <a:lnTo>
                      <a:pt x="803" y="390"/>
                    </a:lnTo>
                    <a:lnTo>
                      <a:pt x="712" y="381"/>
                    </a:lnTo>
                    <a:lnTo>
                      <a:pt x="650" y="378"/>
                    </a:lnTo>
                    <a:lnTo>
                      <a:pt x="604" y="373"/>
                    </a:lnTo>
                    <a:lnTo>
                      <a:pt x="568" y="360"/>
                    </a:lnTo>
                    <a:lnTo>
                      <a:pt x="517" y="340"/>
                    </a:lnTo>
                    <a:lnTo>
                      <a:pt x="472" y="312"/>
                    </a:lnTo>
                    <a:lnTo>
                      <a:pt x="426" y="273"/>
                    </a:lnTo>
                    <a:lnTo>
                      <a:pt x="398" y="225"/>
                    </a:lnTo>
                    <a:lnTo>
                      <a:pt x="385" y="179"/>
                    </a:lnTo>
                    <a:lnTo>
                      <a:pt x="364" y="99"/>
                    </a:lnTo>
                    <a:lnTo>
                      <a:pt x="348" y="46"/>
                    </a:lnTo>
                    <a:lnTo>
                      <a:pt x="348" y="33"/>
                    </a:lnTo>
                    <a:lnTo>
                      <a:pt x="357" y="9"/>
                    </a:lnTo>
                    <a:lnTo>
                      <a:pt x="373" y="67"/>
                    </a:lnTo>
                    <a:lnTo>
                      <a:pt x="385" y="108"/>
                    </a:lnTo>
                    <a:lnTo>
                      <a:pt x="402" y="170"/>
                    </a:lnTo>
                    <a:lnTo>
                      <a:pt x="423" y="225"/>
                    </a:lnTo>
                    <a:lnTo>
                      <a:pt x="451" y="270"/>
                    </a:lnTo>
                    <a:lnTo>
                      <a:pt x="489" y="294"/>
                    </a:lnTo>
                    <a:lnTo>
                      <a:pt x="534" y="319"/>
                    </a:lnTo>
                    <a:lnTo>
                      <a:pt x="576" y="340"/>
                    </a:lnTo>
                    <a:lnTo>
                      <a:pt x="625" y="348"/>
                    </a:lnTo>
                    <a:lnTo>
                      <a:pt x="691" y="357"/>
                    </a:lnTo>
                    <a:lnTo>
                      <a:pt x="762" y="365"/>
                    </a:lnTo>
                    <a:lnTo>
                      <a:pt x="820" y="369"/>
                    </a:lnTo>
                    <a:lnTo>
                      <a:pt x="828" y="369"/>
                    </a:lnTo>
                    <a:lnTo>
                      <a:pt x="828" y="394"/>
                    </a:lnTo>
                    <a:lnTo>
                      <a:pt x="820" y="488"/>
                    </a:lnTo>
                    <a:lnTo>
                      <a:pt x="799" y="584"/>
                    </a:lnTo>
                    <a:lnTo>
                      <a:pt x="753" y="662"/>
                    </a:lnTo>
                    <a:lnTo>
                      <a:pt x="721" y="713"/>
                    </a:lnTo>
                    <a:lnTo>
                      <a:pt x="680" y="763"/>
                    </a:lnTo>
                    <a:lnTo>
                      <a:pt x="638" y="804"/>
                    </a:lnTo>
                    <a:lnTo>
                      <a:pt x="622" y="834"/>
                    </a:lnTo>
                    <a:lnTo>
                      <a:pt x="597" y="845"/>
                    </a:lnTo>
                    <a:lnTo>
                      <a:pt x="597" y="862"/>
                    </a:lnTo>
                    <a:lnTo>
                      <a:pt x="588" y="875"/>
                    </a:lnTo>
                    <a:lnTo>
                      <a:pt x="576" y="882"/>
                    </a:lnTo>
                    <a:lnTo>
                      <a:pt x="556" y="882"/>
                    </a:lnTo>
                    <a:lnTo>
                      <a:pt x="551" y="891"/>
                    </a:lnTo>
                    <a:lnTo>
                      <a:pt x="551" y="903"/>
                    </a:lnTo>
                    <a:lnTo>
                      <a:pt x="538" y="916"/>
                    </a:lnTo>
                    <a:lnTo>
                      <a:pt x="513" y="916"/>
                    </a:lnTo>
                    <a:lnTo>
                      <a:pt x="506" y="937"/>
                    </a:lnTo>
                    <a:lnTo>
                      <a:pt x="501" y="953"/>
                    </a:lnTo>
                    <a:lnTo>
                      <a:pt x="492" y="965"/>
                    </a:lnTo>
                    <a:lnTo>
                      <a:pt x="481" y="987"/>
                    </a:lnTo>
                    <a:lnTo>
                      <a:pt x="456" y="999"/>
                    </a:lnTo>
                    <a:lnTo>
                      <a:pt x="394" y="962"/>
                    </a:lnTo>
                    <a:lnTo>
                      <a:pt x="286" y="895"/>
                    </a:lnTo>
                    <a:lnTo>
                      <a:pt x="236" y="850"/>
                    </a:lnTo>
                    <a:lnTo>
                      <a:pt x="165" y="800"/>
                    </a:lnTo>
                    <a:lnTo>
                      <a:pt x="133" y="758"/>
                    </a:lnTo>
                    <a:lnTo>
                      <a:pt x="103" y="696"/>
                    </a:lnTo>
                    <a:lnTo>
                      <a:pt x="78" y="634"/>
                    </a:lnTo>
                    <a:lnTo>
                      <a:pt x="62" y="589"/>
                    </a:lnTo>
                    <a:lnTo>
                      <a:pt x="50" y="502"/>
                    </a:lnTo>
                    <a:lnTo>
                      <a:pt x="29" y="415"/>
                    </a:lnTo>
                    <a:lnTo>
                      <a:pt x="4" y="337"/>
                    </a:lnTo>
                    <a:lnTo>
                      <a:pt x="0" y="286"/>
                    </a:lnTo>
                    <a:lnTo>
                      <a:pt x="75" y="207"/>
                    </a:lnTo>
                    <a:lnTo>
                      <a:pt x="149" y="140"/>
                    </a:lnTo>
                    <a:lnTo>
                      <a:pt x="203" y="92"/>
                    </a:lnTo>
                    <a:lnTo>
                      <a:pt x="224" y="53"/>
                    </a:lnTo>
                    <a:lnTo>
                      <a:pt x="252" y="0"/>
                    </a:lnTo>
                    <a:lnTo>
                      <a:pt x="357" y="9"/>
                    </a:lnTo>
                    <a:lnTo>
                      <a:pt x="323" y="58"/>
                    </a:lnTo>
                    <a:lnTo>
                      <a:pt x="277" y="117"/>
                    </a:lnTo>
                    <a:lnTo>
                      <a:pt x="199" y="191"/>
                    </a:lnTo>
                    <a:lnTo>
                      <a:pt x="142" y="245"/>
                    </a:lnTo>
                    <a:lnTo>
                      <a:pt x="83" y="2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26" name="Freeform 18"/>
              <p:cNvSpPr/>
              <p:nvPr/>
            </p:nvSpPr>
            <p:spPr>
              <a:xfrm>
                <a:off x="6259680" y="3651480"/>
                <a:ext cx="531720" cy="537120"/>
              </a:xfrm>
              <a:custGeom>
                <a:avLst/>
                <a:gdLst/>
                <a:ahLst/>
                <a:rect l="l" t="t" r="r" b="b"/>
                <a:pathLst>
                  <a:path w="551" h="557">
                    <a:moveTo>
                      <a:pt x="0" y="162"/>
                    </a:moveTo>
                    <a:lnTo>
                      <a:pt x="157" y="0"/>
                    </a:lnTo>
                    <a:lnTo>
                      <a:pt x="175" y="75"/>
                    </a:lnTo>
                    <a:lnTo>
                      <a:pt x="203" y="153"/>
                    </a:lnTo>
                    <a:lnTo>
                      <a:pt x="249" y="203"/>
                    </a:lnTo>
                    <a:lnTo>
                      <a:pt x="319" y="241"/>
                    </a:lnTo>
                    <a:lnTo>
                      <a:pt x="402" y="269"/>
                    </a:lnTo>
                    <a:lnTo>
                      <a:pt x="482" y="269"/>
                    </a:lnTo>
                    <a:lnTo>
                      <a:pt x="551" y="274"/>
                    </a:lnTo>
                    <a:lnTo>
                      <a:pt x="548" y="328"/>
                    </a:lnTo>
                    <a:lnTo>
                      <a:pt x="523" y="411"/>
                    </a:lnTo>
                    <a:lnTo>
                      <a:pt x="477" y="477"/>
                    </a:lnTo>
                    <a:lnTo>
                      <a:pt x="427" y="532"/>
                    </a:lnTo>
                    <a:lnTo>
                      <a:pt x="406" y="557"/>
                    </a:lnTo>
                    <a:lnTo>
                      <a:pt x="299" y="548"/>
                    </a:lnTo>
                    <a:lnTo>
                      <a:pt x="203" y="527"/>
                    </a:lnTo>
                    <a:lnTo>
                      <a:pt x="132" y="482"/>
                    </a:lnTo>
                    <a:lnTo>
                      <a:pt x="95" y="432"/>
                    </a:lnTo>
                    <a:lnTo>
                      <a:pt x="58" y="370"/>
                    </a:lnTo>
                    <a:lnTo>
                      <a:pt x="33" y="294"/>
                    </a:lnTo>
                    <a:lnTo>
                      <a:pt x="13" y="216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27" name="Line 19"/>
              <p:cNvSpPr/>
              <p:nvPr/>
            </p:nvSpPr>
            <p:spPr>
              <a:xfrm flipV="1">
                <a:off x="6287040" y="3734280"/>
                <a:ext cx="141120" cy="16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28" name="Freeform 20"/>
              <p:cNvSpPr/>
              <p:nvPr/>
            </p:nvSpPr>
            <p:spPr>
              <a:xfrm>
                <a:off x="6312240" y="3809880"/>
                <a:ext cx="142920" cy="173880"/>
              </a:xfrm>
              <a:custGeom>
                <a:avLst/>
                <a:gdLst/>
                <a:ahLst/>
                <a:rect l="l" t="t" r="r" b="b"/>
                <a:pathLst>
                  <a:path w="149" h="180">
                    <a:moveTo>
                      <a:pt x="149" y="0"/>
                    </a:moveTo>
                    <a:lnTo>
                      <a:pt x="94" y="74"/>
                    </a:lnTo>
                    <a:lnTo>
                      <a:pt x="28" y="148"/>
                    </a:lnTo>
                    <a:lnTo>
                      <a:pt x="0" y="18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29" name="Freeform 21"/>
              <p:cNvSpPr/>
              <p:nvPr/>
            </p:nvSpPr>
            <p:spPr>
              <a:xfrm>
                <a:off x="6364440" y="3864240"/>
                <a:ext cx="146880" cy="206280"/>
              </a:xfrm>
              <a:custGeom>
                <a:avLst/>
                <a:gdLst/>
                <a:ahLst/>
                <a:rect l="l" t="t" r="r" b="b"/>
                <a:pathLst>
                  <a:path w="151" h="216">
                    <a:moveTo>
                      <a:pt x="151" y="0"/>
                    </a:moveTo>
                    <a:lnTo>
                      <a:pt x="119" y="71"/>
                    </a:lnTo>
                    <a:lnTo>
                      <a:pt x="62" y="158"/>
                    </a:lnTo>
                    <a:lnTo>
                      <a:pt x="0" y="21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30" name="Freeform 22"/>
              <p:cNvSpPr/>
              <p:nvPr/>
            </p:nvSpPr>
            <p:spPr>
              <a:xfrm>
                <a:off x="6445440" y="3902760"/>
                <a:ext cx="150480" cy="246960"/>
              </a:xfrm>
              <a:custGeom>
                <a:avLst/>
                <a:gdLst/>
                <a:ahLst/>
                <a:rect l="l" t="t" r="r" b="b"/>
                <a:pathLst>
                  <a:path w="156" h="255">
                    <a:moveTo>
                      <a:pt x="156" y="0"/>
                    </a:moveTo>
                    <a:lnTo>
                      <a:pt x="131" y="91"/>
                    </a:lnTo>
                    <a:lnTo>
                      <a:pt x="83" y="163"/>
                    </a:lnTo>
                    <a:lnTo>
                      <a:pt x="30" y="225"/>
                    </a:lnTo>
                    <a:lnTo>
                      <a:pt x="0" y="25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31" name="Freeform 23"/>
              <p:cNvSpPr/>
              <p:nvPr/>
            </p:nvSpPr>
            <p:spPr>
              <a:xfrm>
                <a:off x="6541920" y="3924000"/>
                <a:ext cx="150480" cy="253440"/>
              </a:xfrm>
              <a:custGeom>
                <a:avLst/>
                <a:gdLst/>
                <a:ahLst/>
                <a:rect l="l" t="t" r="r" b="b"/>
                <a:pathLst>
                  <a:path w="155" h="261">
                    <a:moveTo>
                      <a:pt x="155" y="0"/>
                    </a:moveTo>
                    <a:lnTo>
                      <a:pt x="146" y="57"/>
                    </a:lnTo>
                    <a:lnTo>
                      <a:pt x="121" y="124"/>
                    </a:lnTo>
                    <a:lnTo>
                      <a:pt x="71" y="182"/>
                    </a:lnTo>
                    <a:lnTo>
                      <a:pt x="38" y="219"/>
                    </a:lnTo>
                    <a:lnTo>
                      <a:pt x="0" y="26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32" name="Freeform 24"/>
              <p:cNvSpPr/>
              <p:nvPr/>
            </p:nvSpPr>
            <p:spPr>
              <a:xfrm>
                <a:off x="6383880" y="3699720"/>
                <a:ext cx="397800" cy="278280"/>
              </a:xfrm>
              <a:custGeom>
                <a:avLst/>
                <a:gdLst/>
                <a:ahLst/>
                <a:rect l="l" t="t" r="r" b="b"/>
                <a:pathLst>
                  <a:path w="411" h="287">
                    <a:moveTo>
                      <a:pt x="0" y="0"/>
                    </a:moveTo>
                    <a:lnTo>
                      <a:pt x="9" y="66"/>
                    </a:lnTo>
                    <a:lnTo>
                      <a:pt x="25" y="132"/>
                    </a:lnTo>
                    <a:lnTo>
                      <a:pt x="50" y="183"/>
                    </a:lnTo>
                    <a:lnTo>
                      <a:pt x="82" y="221"/>
                    </a:lnTo>
                    <a:lnTo>
                      <a:pt x="146" y="241"/>
                    </a:lnTo>
                    <a:lnTo>
                      <a:pt x="199" y="262"/>
                    </a:lnTo>
                    <a:lnTo>
                      <a:pt x="253" y="278"/>
                    </a:lnTo>
                    <a:lnTo>
                      <a:pt x="331" y="283"/>
                    </a:lnTo>
                    <a:lnTo>
                      <a:pt x="411" y="28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33" name="Freeform 25"/>
              <p:cNvSpPr/>
              <p:nvPr/>
            </p:nvSpPr>
            <p:spPr>
              <a:xfrm>
                <a:off x="6335280" y="3747960"/>
                <a:ext cx="429120" cy="299880"/>
              </a:xfrm>
              <a:custGeom>
                <a:avLst/>
                <a:gdLst/>
                <a:ahLst/>
                <a:rect l="l" t="t" r="r" b="b"/>
                <a:pathLst>
                  <a:path w="443" h="311">
                    <a:moveTo>
                      <a:pt x="0" y="0"/>
                    </a:moveTo>
                    <a:lnTo>
                      <a:pt x="20" y="99"/>
                    </a:lnTo>
                    <a:lnTo>
                      <a:pt x="45" y="158"/>
                    </a:lnTo>
                    <a:lnTo>
                      <a:pt x="75" y="203"/>
                    </a:lnTo>
                    <a:lnTo>
                      <a:pt x="123" y="236"/>
                    </a:lnTo>
                    <a:lnTo>
                      <a:pt x="182" y="265"/>
                    </a:lnTo>
                    <a:lnTo>
                      <a:pt x="253" y="290"/>
                    </a:lnTo>
                    <a:lnTo>
                      <a:pt x="352" y="302"/>
                    </a:lnTo>
                    <a:lnTo>
                      <a:pt x="443" y="31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34" name="Freeform 26"/>
              <p:cNvSpPr/>
              <p:nvPr/>
            </p:nvSpPr>
            <p:spPr>
              <a:xfrm>
                <a:off x="6298560" y="3796200"/>
                <a:ext cx="365040" cy="318960"/>
              </a:xfrm>
              <a:custGeom>
                <a:avLst/>
                <a:gdLst/>
                <a:ahLst/>
                <a:rect l="l" t="t" r="r" b="b"/>
                <a:pathLst>
                  <a:path w="377" h="330">
                    <a:moveTo>
                      <a:pt x="0" y="0"/>
                    </a:moveTo>
                    <a:lnTo>
                      <a:pt x="38" y="144"/>
                    </a:lnTo>
                    <a:lnTo>
                      <a:pt x="96" y="223"/>
                    </a:lnTo>
                    <a:lnTo>
                      <a:pt x="166" y="280"/>
                    </a:lnTo>
                    <a:lnTo>
                      <a:pt x="233" y="310"/>
                    </a:lnTo>
                    <a:lnTo>
                      <a:pt x="303" y="326"/>
                    </a:lnTo>
                    <a:lnTo>
                      <a:pt x="377" y="3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235" name="Group 37"/>
            <p:cNvGrpSpPr/>
            <p:nvPr/>
          </p:nvGrpSpPr>
          <p:grpSpPr>
            <a:xfrm>
              <a:off x="7637040" y="2895480"/>
              <a:ext cx="801720" cy="784080"/>
              <a:chOff x="7637040" y="2895480"/>
              <a:chExt cx="801720" cy="784080"/>
            </a:xfrm>
          </p:grpSpPr>
          <p:grpSp>
            <p:nvGrpSpPr>
              <p:cNvPr id="236" name="Group 30"/>
              <p:cNvGrpSpPr/>
              <p:nvPr/>
            </p:nvGrpSpPr>
            <p:grpSpPr>
              <a:xfrm>
                <a:off x="7637040" y="2895480"/>
                <a:ext cx="686160" cy="457560"/>
                <a:chOff x="7637040" y="2895480"/>
                <a:chExt cx="686160" cy="457560"/>
              </a:xfrm>
            </p:grpSpPr>
            <p:sp>
              <p:nvSpPr>
                <p:cNvPr id="237" name="Freeform 28"/>
                <p:cNvSpPr/>
                <p:nvPr/>
              </p:nvSpPr>
              <p:spPr>
                <a:xfrm>
                  <a:off x="7652160" y="2908800"/>
                  <a:ext cx="659160" cy="434520"/>
                </a:xfrm>
                <a:custGeom>
                  <a:avLst/>
                  <a:gdLst/>
                  <a:ahLst/>
                  <a:rect l="l" t="t" r="r" b="b"/>
                  <a:pathLst>
                    <a:path w="682" h="451">
                      <a:moveTo>
                        <a:pt x="51" y="0"/>
                      </a:moveTo>
                      <a:lnTo>
                        <a:pt x="20" y="182"/>
                      </a:lnTo>
                      <a:lnTo>
                        <a:pt x="0" y="304"/>
                      </a:lnTo>
                      <a:lnTo>
                        <a:pt x="1" y="336"/>
                      </a:lnTo>
                      <a:lnTo>
                        <a:pt x="177" y="360"/>
                      </a:lnTo>
                      <a:lnTo>
                        <a:pt x="384" y="403"/>
                      </a:lnTo>
                      <a:lnTo>
                        <a:pt x="510" y="429"/>
                      </a:lnTo>
                      <a:lnTo>
                        <a:pt x="592" y="450"/>
                      </a:lnTo>
                      <a:lnTo>
                        <a:pt x="607" y="451"/>
                      </a:lnTo>
                      <a:lnTo>
                        <a:pt x="620" y="437"/>
                      </a:lnTo>
                      <a:lnTo>
                        <a:pt x="634" y="367"/>
                      </a:lnTo>
                      <a:lnTo>
                        <a:pt x="650" y="294"/>
                      </a:lnTo>
                      <a:lnTo>
                        <a:pt x="665" y="224"/>
                      </a:lnTo>
                      <a:lnTo>
                        <a:pt x="673" y="174"/>
                      </a:lnTo>
                      <a:lnTo>
                        <a:pt x="682" y="129"/>
                      </a:lnTo>
                      <a:lnTo>
                        <a:pt x="669" y="112"/>
                      </a:lnTo>
                      <a:lnTo>
                        <a:pt x="463" y="80"/>
                      </a:lnTo>
                      <a:lnTo>
                        <a:pt x="374" y="64"/>
                      </a:lnTo>
                      <a:lnTo>
                        <a:pt x="219" y="31"/>
                      </a:lnTo>
                      <a:lnTo>
                        <a:pt x="135" y="9"/>
                      </a:lnTo>
                      <a:lnTo>
                        <a:pt x="69" y="3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238" name="Freeform 29"/>
                <p:cNvSpPr/>
                <p:nvPr/>
              </p:nvSpPr>
              <p:spPr>
                <a:xfrm>
                  <a:off x="7637040" y="2895480"/>
                  <a:ext cx="686160" cy="457560"/>
                </a:xfrm>
                <a:custGeom>
                  <a:avLst/>
                  <a:gdLst/>
                  <a:ahLst/>
                  <a:rect l="l" t="t" r="r" b="b"/>
                  <a:pathLst>
                    <a:path w="710" h="473">
                      <a:moveTo>
                        <a:pt x="73" y="0"/>
                      </a:moveTo>
                      <a:lnTo>
                        <a:pt x="224" y="32"/>
                      </a:lnTo>
                      <a:lnTo>
                        <a:pt x="403" y="74"/>
                      </a:lnTo>
                      <a:lnTo>
                        <a:pt x="513" y="88"/>
                      </a:lnTo>
                      <a:lnTo>
                        <a:pt x="626" y="103"/>
                      </a:lnTo>
                      <a:lnTo>
                        <a:pt x="698" y="114"/>
                      </a:lnTo>
                      <a:lnTo>
                        <a:pt x="710" y="136"/>
                      </a:lnTo>
                      <a:lnTo>
                        <a:pt x="698" y="190"/>
                      </a:lnTo>
                      <a:lnTo>
                        <a:pt x="675" y="310"/>
                      </a:lnTo>
                      <a:lnTo>
                        <a:pt x="658" y="411"/>
                      </a:lnTo>
                      <a:lnTo>
                        <a:pt x="645" y="463"/>
                      </a:lnTo>
                      <a:lnTo>
                        <a:pt x="623" y="473"/>
                      </a:lnTo>
                      <a:lnTo>
                        <a:pt x="260" y="398"/>
                      </a:lnTo>
                      <a:lnTo>
                        <a:pt x="11" y="361"/>
                      </a:lnTo>
                      <a:lnTo>
                        <a:pt x="0" y="347"/>
                      </a:lnTo>
                      <a:lnTo>
                        <a:pt x="25" y="224"/>
                      </a:lnTo>
                      <a:lnTo>
                        <a:pt x="44" y="118"/>
                      </a:lnTo>
                      <a:lnTo>
                        <a:pt x="58" y="21"/>
                      </a:lnTo>
                      <a:lnTo>
                        <a:pt x="75" y="31"/>
                      </a:lnTo>
                      <a:lnTo>
                        <a:pt x="84" y="63"/>
                      </a:lnTo>
                      <a:lnTo>
                        <a:pt x="356" y="271"/>
                      </a:lnTo>
                      <a:lnTo>
                        <a:pt x="691" y="190"/>
                      </a:lnTo>
                      <a:lnTo>
                        <a:pt x="684" y="205"/>
                      </a:lnTo>
                      <a:lnTo>
                        <a:pt x="362" y="296"/>
                      </a:lnTo>
                      <a:lnTo>
                        <a:pt x="343" y="290"/>
                      </a:lnTo>
                      <a:lnTo>
                        <a:pt x="79" y="88"/>
                      </a:lnTo>
                      <a:lnTo>
                        <a:pt x="63" y="99"/>
                      </a:lnTo>
                      <a:lnTo>
                        <a:pt x="41" y="226"/>
                      </a:lnTo>
                      <a:lnTo>
                        <a:pt x="196" y="214"/>
                      </a:lnTo>
                      <a:lnTo>
                        <a:pt x="33" y="243"/>
                      </a:lnTo>
                      <a:lnTo>
                        <a:pt x="26" y="329"/>
                      </a:lnTo>
                      <a:lnTo>
                        <a:pt x="32" y="338"/>
                      </a:lnTo>
                      <a:lnTo>
                        <a:pt x="212" y="370"/>
                      </a:lnTo>
                      <a:lnTo>
                        <a:pt x="386" y="400"/>
                      </a:lnTo>
                      <a:lnTo>
                        <a:pt x="515" y="429"/>
                      </a:lnTo>
                      <a:lnTo>
                        <a:pt x="608" y="456"/>
                      </a:lnTo>
                      <a:lnTo>
                        <a:pt x="630" y="450"/>
                      </a:lnTo>
                      <a:lnTo>
                        <a:pt x="642" y="380"/>
                      </a:lnTo>
                      <a:lnTo>
                        <a:pt x="461" y="268"/>
                      </a:lnTo>
                      <a:lnTo>
                        <a:pt x="479" y="255"/>
                      </a:lnTo>
                      <a:lnTo>
                        <a:pt x="648" y="348"/>
                      </a:lnTo>
                      <a:lnTo>
                        <a:pt x="666" y="268"/>
                      </a:lnTo>
                      <a:lnTo>
                        <a:pt x="686" y="195"/>
                      </a:lnTo>
                      <a:lnTo>
                        <a:pt x="691" y="145"/>
                      </a:lnTo>
                      <a:lnTo>
                        <a:pt x="613" y="133"/>
                      </a:lnTo>
                      <a:lnTo>
                        <a:pt x="409" y="90"/>
                      </a:lnTo>
                      <a:lnTo>
                        <a:pt x="147" y="32"/>
                      </a:lnTo>
                      <a:lnTo>
                        <a:pt x="72" y="16"/>
                      </a:lnTo>
                      <a:lnTo>
                        <a:pt x="7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239" name="Group 33"/>
              <p:cNvGrpSpPr/>
              <p:nvPr/>
            </p:nvGrpSpPr>
            <p:grpSpPr>
              <a:xfrm>
                <a:off x="7708320" y="2978640"/>
                <a:ext cx="711000" cy="550440"/>
                <a:chOff x="7708320" y="2978640"/>
                <a:chExt cx="711000" cy="550440"/>
              </a:xfrm>
            </p:grpSpPr>
            <p:sp>
              <p:nvSpPr>
                <p:cNvPr id="240" name="Freeform 31"/>
                <p:cNvSpPr/>
                <p:nvPr/>
              </p:nvSpPr>
              <p:spPr>
                <a:xfrm>
                  <a:off x="7723800" y="2989800"/>
                  <a:ext cx="687960" cy="527400"/>
                </a:xfrm>
                <a:custGeom>
                  <a:avLst/>
                  <a:gdLst/>
                  <a:ahLst/>
                  <a:rect l="l" t="t" r="r" b="b"/>
                  <a:pathLst>
                    <a:path w="712" h="547">
                      <a:moveTo>
                        <a:pt x="115" y="0"/>
                      </a:moveTo>
                      <a:lnTo>
                        <a:pt x="51" y="170"/>
                      </a:lnTo>
                      <a:lnTo>
                        <a:pt x="6" y="285"/>
                      </a:lnTo>
                      <a:lnTo>
                        <a:pt x="0" y="320"/>
                      </a:lnTo>
                      <a:lnTo>
                        <a:pt x="170" y="375"/>
                      </a:lnTo>
                      <a:lnTo>
                        <a:pt x="366" y="456"/>
                      </a:lnTo>
                      <a:lnTo>
                        <a:pt x="485" y="506"/>
                      </a:lnTo>
                      <a:lnTo>
                        <a:pt x="562" y="541"/>
                      </a:lnTo>
                      <a:lnTo>
                        <a:pt x="577" y="547"/>
                      </a:lnTo>
                      <a:lnTo>
                        <a:pt x="593" y="536"/>
                      </a:lnTo>
                      <a:lnTo>
                        <a:pt x="618" y="471"/>
                      </a:lnTo>
                      <a:lnTo>
                        <a:pt x="648" y="400"/>
                      </a:lnTo>
                      <a:lnTo>
                        <a:pt x="677" y="337"/>
                      </a:lnTo>
                      <a:lnTo>
                        <a:pt x="696" y="289"/>
                      </a:lnTo>
                      <a:lnTo>
                        <a:pt x="712" y="247"/>
                      </a:lnTo>
                      <a:lnTo>
                        <a:pt x="701" y="226"/>
                      </a:lnTo>
                      <a:lnTo>
                        <a:pt x="505" y="158"/>
                      </a:lnTo>
                      <a:lnTo>
                        <a:pt x="421" y="124"/>
                      </a:lnTo>
                      <a:lnTo>
                        <a:pt x="275" y="62"/>
                      </a:lnTo>
                      <a:lnTo>
                        <a:pt x="195" y="24"/>
                      </a:lnTo>
                      <a:lnTo>
                        <a:pt x="132" y="6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241" name="Freeform 32"/>
                <p:cNvSpPr/>
                <p:nvPr/>
              </p:nvSpPr>
              <p:spPr>
                <a:xfrm>
                  <a:off x="7708320" y="2978640"/>
                  <a:ext cx="711000" cy="550440"/>
                </a:xfrm>
                <a:custGeom>
                  <a:avLst/>
                  <a:gdLst/>
                  <a:ahLst/>
                  <a:rect l="l" t="t" r="r" b="b"/>
                  <a:pathLst>
                    <a:path w="735" h="570">
                      <a:moveTo>
                        <a:pt x="137" y="0"/>
                      </a:moveTo>
                      <a:lnTo>
                        <a:pt x="278" y="60"/>
                      </a:lnTo>
                      <a:lnTo>
                        <a:pt x="446" y="134"/>
                      </a:lnTo>
                      <a:lnTo>
                        <a:pt x="551" y="171"/>
                      </a:lnTo>
                      <a:lnTo>
                        <a:pt x="657" y="207"/>
                      </a:lnTo>
                      <a:lnTo>
                        <a:pt x="729" y="230"/>
                      </a:lnTo>
                      <a:lnTo>
                        <a:pt x="735" y="252"/>
                      </a:lnTo>
                      <a:lnTo>
                        <a:pt x="713" y="306"/>
                      </a:lnTo>
                      <a:lnTo>
                        <a:pt x="666" y="418"/>
                      </a:lnTo>
                      <a:lnTo>
                        <a:pt x="631" y="516"/>
                      </a:lnTo>
                      <a:lnTo>
                        <a:pt x="609" y="564"/>
                      </a:lnTo>
                      <a:lnTo>
                        <a:pt x="585" y="570"/>
                      </a:lnTo>
                      <a:lnTo>
                        <a:pt x="244" y="427"/>
                      </a:lnTo>
                      <a:lnTo>
                        <a:pt x="7" y="342"/>
                      </a:lnTo>
                      <a:lnTo>
                        <a:pt x="0" y="325"/>
                      </a:lnTo>
                      <a:lnTo>
                        <a:pt x="45" y="209"/>
                      </a:lnTo>
                      <a:lnTo>
                        <a:pt x="85" y="110"/>
                      </a:lnTo>
                      <a:lnTo>
                        <a:pt x="119" y="16"/>
                      </a:lnTo>
                      <a:lnTo>
                        <a:pt x="132" y="29"/>
                      </a:lnTo>
                      <a:lnTo>
                        <a:pt x="135" y="64"/>
                      </a:lnTo>
                      <a:lnTo>
                        <a:pt x="362" y="320"/>
                      </a:lnTo>
                      <a:lnTo>
                        <a:pt x="704" y="305"/>
                      </a:lnTo>
                      <a:lnTo>
                        <a:pt x="695" y="318"/>
                      </a:lnTo>
                      <a:lnTo>
                        <a:pt x="364" y="346"/>
                      </a:lnTo>
                      <a:lnTo>
                        <a:pt x="345" y="337"/>
                      </a:lnTo>
                      <a:lnTo>
                        <a:pt x="126" y="88"/>
                      </a:lnTo>
                      <a:lnTo>
                        <a:pt x="107" y="95"/>
                      </a:lnTo>
                      <a:lnTo>
                        <a:pt x="62" y="215"/>
                      </a:lnTo>
                      <a:lnTo>
                        <a:pt x="218" y="233"/>
                      </a:lnTo>
                      <a:lnTo>
                        <a:pt x="54" y="230"/>
                      </a:lnTo>
                      <a:lnTo>
                        <a:pt x="28" y="314"/>
                      </a:lnTo>
                      <a:lnTo>
                        <a:pt x="34" y="324"/>
                      </a:lnTo>
                      <a:lnTo>
                        <a:pt x="205" y="389"/>
                      </a:lnTo>
                      <a:lnTo>
                        <a:pt x="367" y="451"/>
                      </a:lnTo>
                      <a:lnTo>
                        <a:pt x="488" y="507"/>
                      </a:lnTo>
                      <a:lnTo>
                        <a:pt x="575" y="550"/>
                      </a:lnTo>
                      <a:lnTo>
                        <a:pt x="595" y="548"/>
                      </a:lnTo>
                      <a:lnTo>
                        <a:pt x="620" y="483"/>
                      </a:lnTo>
                      <a:lnTo>
                        <a:pt x="467" y="336"/>
                      </a:lnTo>
                      <a:lnTo>
                        <a:pt x="485" y="327"/>
                      </a:lnTo>
                      <a:lnTo>
                        <a:pt x="634" y="451"/>
                      </a:lnTo>
                      <a:lnTo>
                        <a:pt x="667" y="376"/>
                      </a:lnTo>
                      <a:lnTo>
                        <a:pt x="700" y="306"/>
                      </a:lnTo>
                      <a:lnTo>
                        <a:pt x="713" y="259"/>
                      </a:lnTo>
                      <a:lnTo>
                        <a:pt x="641" y="233"/>
                      </a:lnTo>
                      <a:lnTo>
                        <a:pt x="449" y="151"/>
                      </a:lnTo>
                      <a:lnTo>
                        <a:pt x="205" y="47"/>
                      </a:lnTo>
                      <a:lnTo>
                        <a:pt x="132" y="16"/>
                      </a:lnTo>
                      <a:lnTo>
                        <a:pt x="1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242" name="Group 36"/>
              <p:cNvGrpSpPr/>
              <p:nvPr/>
            </p:nvGrpSpPr>
            <p:grpSpPr>
              <a:xfrm>
                <a:off x="7727760" y="3044160"/>
                <a:ext cx="711000" cy="635400"/>
                <a:chOff x="7727760" y="3044160"/>
                <a:chExt cx="711000" cy="635400"/>
              </a:xfrm>
            </p:grpSpPr>
            <p:sp>
              <p:nvSpPr>
                <p:cNvPr id="243" name="Freeform 34"/>
                <p:cNvSpPr/>
                <p:nvPr/>
              </p:nvSpPr>
              <p:spPr>
                <a:xfrm>
                  <a:off x="7741080" y="3055320"/>
                  <a:ext cx="684000" cy="612360"/>
                </a:xfrm>
                <a:custGeom>
                  <a:avLst/>
                  <a:gdLst/>
                  <a:ahLst/>
                  <a:rect l="l" t="t" r="r" b="b"/>
                  <a:pathLst>
                    <a:path w="707" h="636">
                      <a:moveTo>
                        <a:pt x="184" y="0"/>
                      </a:moveTo>
                      <a:lnTo>
                        <a:pt x="82" y="151"/>
                      </a:lnTo>
                      <a:lnTo>
                        <a:pt x="13" y="254"/>
                      </a:lnTo>
                      <a:lnTo>
                        <a:pt x="0" y="285"/>
                      </a:lnTo>
                      <a:lnTo>
                        <a:pt x="151" y="378"/>
                      </a:lnTo>
                      <a:lnTo>
                        <a:pt x="324" y="500"/>
                      </a:lnTo>
                      <a:lnTo>
                        <a:pt x="429" y="575"/>
                      </a:lnTo>
                      <a:lnTo>
                        <a:pt x="495" y="627"/>
                      </a:lnTo>
                      <a:lnTo>
                        <a:pt x="510" y="636"/>
                      </a:lnTo>
                      <a:lnTo>
                        <a:pt x="529" y="627"/>
                      </a:lnTo>
                      <a:lnTo>
                        <a:pt x="567" y="569"/>
                      </a:lnTo>
                      <a:lnTo>
                        <a:pt x="611" y="509"/>
                      </a:lnTo>
                      <a:lnTo>
                        <a:pt x="654" y="453"/>
                      </a:lnTo>
                      <a:lnTo>
                        <a:pt x="682" y="412"/>
                      </a:lnTo>
                      <a:lnTo>
                        <a:pt x="707" y="373"/>
                      </a:lnTo>
                      <a:lnTo>
                        <a:pt x="703" y="351"/>
                      </a:lnTo>
                      <a:lnTo>
                        <a:pt x="527" y="241"/>
                      </a:lnTo>
                      <a:lnTo>
                        <a:pt x="452" y="187"/>
                      </a:lnTo>
                      <a:lnTo>
                        <a:pt x="324" y="95"/>
                      </a:lnTo>
                      <a:lnTo>
                        <a:pt x="256" y="41"/>
                      </a:lnTo>
                      <a:lnTo>
                        <a:pt x="199" y="9"/>
                      </a:lnTo>
                      <a:lnTo>
                        <a:pt x="1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244" name="Freeform 35"/>
                <p:cNvSpPr/>
                <p:nvPr/>
              </p:nvSpPr>
              <p:spPr>
                <a:xfrm>
                  <a:off x="7727760" y="3044160"/>
                  <a:ext cx="711000" cy="635400"/>
                </a:xfrm>
                <a:custGeom>
                  <a:avLst/>
                  <a:gdLst/>
                  <a:ahLst/>
                  <a:rect l="l" t="t" r="r" b="b"/>
                  <a:pathLst>
                    <a:path w="735" h="657">
                      <a:moveTo>
                        <a:pt x="208" y="0"/>
                      </a:moveTo>
                      <a:lnTo>
                        <a:pt x="333" y="91"/>
                      </a:lnTo>
                      <a:lnTo>
                        <a:pt x="480" y="200"/>
                      </a:lnTo>
                      <a:lnTo>
                        <a:pt x="575" y="259"/>
                      </a:lnTo>
                      <a:lnTo>
                        <a:pt x="671" y="318"/>
                      </a:lnTo>
                      <a:lnTo>
                        <a:pt x="734" y="357"/>
                      </a:lnTo>
                      <a:lnTo>
                        <a:pt x="735" y="382"/>
                      </a:lnTo>
                      <a:lnTo>
                        <a:pt x="702" y="429"/>
                      </a:lnTo>
                      <a:lnTo>
                        <a:pt x="632" y="526"/>
                      </a:lnTo>
                      <a:lnTo>
                        <a:pt x="576" y="615"/>
                      </a:lnTo>
                      <a:lnTo>
                        <a:pt x="542" y="657"/>
                      </a:lnTo>
                      <a:lnTo>
                        <a:pt x="517" y="657"/>
                      </a:lnTo>
                      <a:lnTo>
                        <a:pt x="218" y="441"/>
                      </a:lnTo>
                      <a:lnTo>
                        <a:pt x="6" y="304"/>
                      </a:lnTo>
                      <a:lnTo>
                        <a:pt x="0" y="287"/>
                      </a:lnTo>
                      <a:lnTo>
                        <a:pt x="74" y="186"/>
                      </a:lnTo>
                      <a:lnTo>
                        <a:pt x="134" y="97"/>
                      </a:lnTo>
                      <a:lnTo>
                        <a:pt x="187" y="12"/>
                      </a:lnTo>
                      <a:lnTo>
                        <a:pt x="197" y="28"/>
                      </a:lnTo>
                      <a:lnTo>
                        <a:pt x="192" y="62"/>
                      </a:lnTo>
                      <a:lnTo>
                        <a:pt x="357" y="363"/>
                      </a:lnTo>
                      <a:lnTo>
                        <a:pt x="696" y="426"/>
                      </a:lnTo>
                      <a:lnTo>
                        <a:pt x="682" y="438"/>
                      </a:lnTo>
                      <a:lnTo>
                        <a:pt x="352" y="389"/>
                      </a:lnTo>
                      <a:lnTo>
                        <a:pt x="336" y="376"/>
                      </a:lnTo>
                      <a:lnTo>
                        <a:pt x="180" y="84"/>
                      </a:lnTo>
                      <a:lnTo>
                        <a:pt x="159" y="87"/>
                      </a:lnTo>
                      <a:lnTo>
                        <a:pt x="88" y="193"/>
                      </a:lnTo>
                      <a:lnTo>
                        <a:pt x="234" y="245"/>
                      </a:lnTo>
                      <a:lnTo>
                        <a:pt x="75" y="206"/>
                      </a:lnTo>
                      <a:lnTo>
                        <a:pt x="32" y="281"/>
                      </a:lnTo>
                      <a:lnTo>
                        <a:pt x="35" y="293"/>
                      </a:lnTo>
                      <a:lnTo>
                        <a:pt x="187" y="395"/>
                      </a:lnTo>
                      <a:lnTo>
                        <a:pt x="332" y="492"/>
                      </a:lnTo>
                      <a:lnTo>
                        <a:pt x="438" y="573"/>
                      </a:lnTo>
                      <a:lnTo>
                        <a:pt x="511" y="635"/>
                      </a:lnTo>
                      <a:lnTo>
                        <a:pt x="534" y="638"/>
                      </a:lnTo>
                      <a:lnTo>
                        <a:pt x="572" y="579"/>
                      </a:lnTo>
                      <a:lnTo>
                        <a:pt x="455" y="401"/>
                      </a:lnTo>
                      <a:lnTo>
                        <a:pt x="476" y="399"/>
                      </a:lnTo>
                      <a:lnTo>
                        <a:pt x="594" y="553"/>
                      </a:lnTo>
                      <a:lnTo>
                        <a:pt x="641" y="485"/>
                      </a:lnTo>
                      <a:lnTo>
                        <a:pt x="690" y="427"/>
                      </a:lnTo>
                      <a:lnTo>
                        <a:pt x="715" y="383"/>
                      </a:lnTo>
                      <a:lnTo>
                        <a:pt x="648" y="339"/>
                      </a:lnTo>
                      <a:lnTo>
                        <a:pt x="479" y="218"/>
                      </a:lnTo>
                      <a:lnTo>
                        <a:pt x="265" y="60"/>
                      </a:lnTo>
                      <a:lnTo>
                        <a:pt x="200" y="15"/>
                      </a:lnTo>
                      <a:lnTo>
                        <a:pt x="20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</p:grpSp>
      </p:grp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64AC-735E-4CC9-9DB4-1AFD6DB80B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42184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Information Policy:  Information Crossing National Border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609480" y="1752480"/>
            <a:ext cx="807732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’s Universal Declaration of Human Rights -- includes right to freedom of expression and opinion and to seek, receive, or impart information through any media regardless of frontier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onal issu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onomic issu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onalistic issues – Revolution and Reform?  Egypt, Syria, Libya?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ciocultural issu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tistic express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ression in opposition to the US governmen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xually explicit express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B6F9-C450-45F5-8C89-53BBFCC663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1840" cy="5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nformation Policy:  The ‘Ne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457200" y="1143000"/>
            <a:ext cx="8077320" cy="52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Information Infrastructure (NII) = National Data Highway or information highway = single most important development in breaking down geographical barriers -- integrates various components of information infrastructure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II:  The Agenda for A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1993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jor policy issu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rst Amendment/Intellectual Freedo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vac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llectual Proper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versal Acces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table Acces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oper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1786-6AF0-42E7-91BD-D49733102B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2148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nformation Policy:  The ‘Net &amp; Acces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380880" y="1676520"/>
            <a:ext cx="8077320" cy="53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</a:rPr>
              <a:t>Universal Acces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ocracy presumes access to information is essential and barrier-free (costs and protocols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s of the naïve user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</a:rPr>
              <a:t>Equitable Acces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ographic, social, and economic conditions affect acces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gital Divid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le of public institutions (libraries?) in providing open acces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9C1C-424D-4B77-A7AC-6D298238E6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erspectives on the Information Society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381880" cy="341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</a:rPr>
              <a:t>Technological defini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focus on rapid increase and proliferation of information technology and its impact on soci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</a:rPr>
              <a:t>Economic defini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focus on measuring size and growth of information industries (as creators of wealth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</a:rPr>
              <a:t>Occupational defini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focus on number of individuals engaged in work related to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</a:rPr>
              <a:t>Spatial defini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focus on networks that connect locations and have dramatic effect on the organization of time and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</a:rPr>
              <a:t>Cultural defini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focus on increase of information in daily l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C2D0-1209-4240-889A-E9756C626A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421840" cy="133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nother Descriptor:  The “Information Age”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1760" y="2466720"/>
            <a:ext cx="7864200" cy="43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as the symbol for our 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fessional, caring society or tightening of control over citizenr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ergence of highly educated public with ready access to knowledge or deluge of trivia, sensationalism, propagand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rning point in social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7A52-D678-4ACB-ABA3-25085ECEDF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421480" cy="101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e Information Society:  The “Third Wave”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169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turist Alvin Toffler  -- from “brute force” to “brain forc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% of labor force by 1975 and fastest growing occupations 2000-2010 (60-10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6" descr="wave"/>
          <p:cNvPicPr/>
          <p:nvPr/>
        </p:nvPicPr>
        <p:blipFill>
          <a:blip r:embed="rId1"/>
          <a:stretch/>
        </p:blipFill>
        <p:spPr>
          <a:xfrm>
            <a:off x="990720" y="2743200"/>
            <a:ext cx="1338120" cy="1352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wave"/>
          <p:cNvPicPr/>
          <p:nvPr/>
        </p:nvPicPr>
        <p:blipFill>
          <a:blip r:embed="rId2"/>
          <a:stretch/>
        </p:blipFill>
        <p:spPr>
          <a:xfrm>
            <a:off x="3962520" y="2743200"/>
            <a:ext cx="1338120" cy="1352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wave"/>
          <p:cNvPicPr/>
          <p:nvPr/>
        </p:nvPicPr>
        <p:blipFill>
          <a:blip r:embed="rId3"/>
          <a:stretch/>
        </p:blipFill>
        <p:spPr>
          <a:xfrm>
            <a:off x="6934320" y="2743200"/>
            <a:ext cx="1338120" cy="13525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9"/>
          <p:cNvSpPr/>
          <p:nvPr/>
        </p:nvSpPr>
        <p:spPr>
          <a:xfrm>
            <a:off x="457200" y="4343400"/>
            <a:ext cx="25909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icultural Socie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3581280" y="4343400"/>
            <a:ext cx="24386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ial Socie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6400800" y="4343400"/>
            <a:ext cx="24382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Socie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1066680" y="3505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411480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7086600" y="3505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EB8C-FCD8-4AF6-BAB5-5D3965CA17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42184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me More Definition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Da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w &amp; unprocessed; material out of which information is created; building blocks; often numbers, letters, symbols; meaning is not yet apparent or assigned (like numbers stored in a computer file) --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Inform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ed and communicated with meaning; organized or classified data that has meaning; “informs” us; implies some type of human processing or understanding; must be true or accurate; must go from one person to another (like a spreadsheet or budget report) --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rocessed with mea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Knowledg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rther processed and interrelated; cohesive body of information integrated into a larger body of information; interrelated (like financial advising) --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urther processed and organiz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Wisd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- 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ledge applied to benefit huma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447F-A283-4CBF-9189-BF9F608DE7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304920" y="685800"/>
            <a:ext cx="1981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9, 2645, 2633, 3112, 3098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6248520" y="350532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380880" y="1523880"/>
            <a:ext cx="3505320" cy="46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abama Public Colleg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rollment Totals 1999-2003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FT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509 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645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633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612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3098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 14497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enrollment at APC between 1999 and 2003 was 2899.4 FTE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4343400" y="1143000"/>
            <a:ext cx="1676520" cy="527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16% growth in FTE enrollment at APC can be attributed, at least in part, to  population trends, which show a similar growth in 18-24 year-olds in the college’s service area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1828800" y="304920"/>
            <a:ext cx="99072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2057400" y="6019920"/>
            <a:ext cx="198108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4191120" y="533520"/>
            <a:ext cx="18288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6705720" y="5257800"/>
            <a:ext cx="16002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sdom?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6553080" y="549360"/>
            <a:ext cx="198144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mple PR techniques that keep APC in the public eye will likely be sufficient to maintain steady growth in student enrollment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712C-03B9-41E7-8D46-17034618C9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21480" cy="11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haracteristics of Information as a Resource*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urally diffu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oduces rather than being consu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shared -- not exchang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e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stitu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por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is of industries such as research, education, publishing, marketing, politics (worldwid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tal concerns have expanded management of information from the traditional domain of libraries and archives to organizations, institutions, govern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66"/>
              </a:buClr>
              <a:buSzPct val="70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at distinguish it from traditional views of resour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24B4-EEFF-4119-AC29-0882D553C9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421840" cy="13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e Information Infrastructure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763596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ay information flows in soci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itutions and individuals involved in the dynamic process by which information is created, disseminated, and used in society” (Rub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ations and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braries play vital r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5T16:16:47Z</dcterms:created>
  <dc:creator>Debbie Grimes</dc:creator>
  <dc:description/>
  <dc:language>en-US</dc:language>
  <cp:lastModifiedBy>hhdk</cp:lastModifiedBy>
  <cp:lastPrinted>2003-07-02T00:03:38Z</cp:lastPrinted>
  <dcterms:modified xsi:type="dcterms:W3CDTF">2016-06-07T07:20:35Z</dcterms:modified>
  <cp:revision>59</cp:revision>
  <dc:subject/>
  <dc:title>The Information Society</dc:title>
</cp:coreProperties>
</file>